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8EE1-CA54-4403-9232-DD012471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9644-DB33-45E7-9238-ABF55E2B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3A9E-072A-4A72-A8A1-1129DBCEC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9758-2D13-4B1F-BFA1-C6C106F7F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0A61-6B07-4D07-AF21-95EE62ECA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70EA-15D1-4524-BC5F-C95D1754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FE87-1E03-4156-B9E2-0E030A91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8BCD-C6F4-4DEE-9AC2-93B8FA93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EFCD-092B-43D0-A97D-92197914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550F-91EE-49A5-802F-65A9ABED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D505-E372-41A0-930D-7D00DC73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338B-F426-439B-9724-F8862E0F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A959-04A1-465D-B743-CF428638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8645-C0F1-45F9-8AF3-A40CC817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FEFD9-8863-4DC9-A67F-7176D8AE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4586-1EA4-48F0-A28D-E825159A3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57604-49A2-48EF-B029-96BC198CC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6CA3-642F-4497-8C7C-BE7FEB5B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BE57-E461-449A-9D7E-317358B5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253F-5AD5-49ED-8D87-7DBF1961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8975-C269-46DC-A4FD-6DC3B453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743D-C6B5-4046-B3DD-8E919189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BE8E-8E57-4330-8DD6-94F9BD54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C67A-AD39-4A86-A461-B8FF18D7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A00B-4568-4C3A-BF98-6E3EFE3582B0}" type="slidenum">
              <a:rPr b="0" lang="en-N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7F9B-A536-49CF-9B3A-E759170AA2BF}" type="slidenum">
              <a:rPr b="0" lang="en-N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Light &amp; Wav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L2 NC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chievement Standard 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xt Book reference: Chapters 12,13 &amp;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A3AB-BCF4-40E8-BE87-4989FD40D00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3008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Wave Ter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76160" y="133344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top or peak of a transverse wave is called a </a:t>
            </a:r>
            <a:r>
              <a:rPr b="0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c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bottom or dip of a transverse wave is called a </a:t>
            </a:r>
            <a:r>
              <a:rPr b="0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t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601640" y="3703680"/>
            <a:ext cx="5816520" cy="2364840"/>
            <a:chOff x="1601640" y="3703680"/>
            <a:chExt cx="5816520" cy="2364840"/>
          </a:xfrm>
        </p:grpSpPr>
        <p:sp>
          <p:nvSpPr>
            <p:cNvPr id="192" name=""/>
            <p:cNvSpPr/>
            <p:nvPr/>
          </p:nvSpPr>
          <p:spPr>
            <a:xfrm>
              <a:off x="1601640" y="3703680"/>
              <a:ext cx="5816520" cy="236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64680" y="4870440"/>
              <a:ext cx="2381040" cy="1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64680" y="4070160"/>
              <a:ext cx="2381040" cy="1594440"/>
            </a:xfrm>
            <a:custGeom>
              <a:avLst/>
              <a:gdLst/>
              <a:ahLst/>
              <a:rect l="l" t="t" r="r" b="b"/>
              <a:pathLst>
                <a:path w="4301" h="2861">
                  <a:moveTo>
                    <a:pt x="0" y="1440"/>
                  </a:moveTo>
                  <a:cubicBezTo>
                    <a:pt x="360" y="720"/>
                    <a:pt x="720" y="0"/>
                    <a:pt x="1080" y="0"/>
                  </a:cubicBezTo>
                  <a:cubicBezTo>
                    <a:pt x="1440" y="0"/>
                    <a:pt x="1800" y="963"/>
                    <a:pt x="2160" y="1440"/>
                  </a:cubicBezTo>
                  <a:cubicBezTo>
                    <a:pt x="2520" y="1917"/>
                    <a:pt x="2883" y="2861"/>
                    <a:pt x="3240" y="2861"/>
                  </a:cubicBezTo>
                  <a:cubicBezTo>
                    <a:pt x="3597" y="2861"/>
                    <a:pt x="4127" y="1674"/>
                    <a:pt x="4301" y="14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35280" y="4875120"/>
              <a:ext cx="2383200" cy="1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496760" y="4083480"/>
              <a:ext cx="2381040" cy="1594080"/>
            </a:xfrm>
            <a:custGeom>
              <a:avLst/>
              <a:gdLst/>
              <a:ahLst/>
              <a:rect l="l" t="t" r="r" b="b"/>
              <a:pathLst>
                <a:path w="4301" h="2861">
                  <a:moveTo>
                    <a:pt x="0" y="1440"/>
                  </a:moveTo>
                  <a:cubicBezTo>
                    <a:pt x="360" y="720"/>
                    <a:pt x="720" y="0"/>
                    <a:pt x="1080" y="0"/>
                  </a:cubicBezTo>
                  <a:cubicBezTo>
                    <a:pt x="1440" y="0"/>
                    <a:pt x="1800" y="963"/>
                    <a:pt x="2160" y="1440"/>
                  </a:cubicBezTo>
                  <a:cubicBezTo>
                    <a:pt x="2520" y="1917"/>
                    <a:pt x="2883" y="2861"/>
                    <a:pt x="3240" y="2861"/>
                  </a:cubicBezTo>
                  <a:cubicBezTo>
                    <a:pt x="3597" y="2861"/>
                    <a:pt x="4127" y="1674"/>
                    <a:pt x="4301" y="14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516040" y="3703680"/>
              <a:ext cx="119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Times New Roman"/>
                </a:rPr>
                <a:t>Cr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658680" y="5608800"/>
              <a:ext cx="180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Times New Roman"/>
                </a:rPr>
                <a:t>Troug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97AE-5647-49FF-AC10-373C5575A57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3008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Wave Ter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09200" y="1257480"/>
            <a:ext cx="400068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aves generated from a point source travel outwards in concentric circles called </a:t>
            </a:r>
            <a:r>
              <a:rPr b="0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wavefronts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 line in the direction of propagation is called a </a:t>
            </a:r>
            <a:r>
              <a:rPr b="0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ray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527720" y="3244680"/>
            <a:ext cx="4330440" cy="2462400"/>
            <a:chOff x="4527720" y="3244680"/>
            <a:chExt cx="4330440" cy="2462400"/>
          </a:xfrm>
        </p:grpSpPr>
        <p:sp>
          <p:nvSpPr>
            <p:cNvPr id="202" name=""/>
            <p:cNvSpPr/>
            <p:nvPr/>
          </p:nvSpPr>
          <p:spPr>
            <a:xfrm>
              <a:off x="4527720" y="3244680"/>
              <a:ext cx="4330440" cy="246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4638240" y="3389400"/>
              <a:ext cx="4022640" cy="2106360"/>
              <a:chOff x="4638240" y="3389400"/>
              <a:chExt cx="4022640" cy="210636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4638240" y="3389400"/>
                <a:ext cx="4022640" cy="2106360"/>
                <a:chOff x="4638240" y="3389400"/>
                <a:chExt cx="4022640" cy="21063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5632200" y="3508200"/>
                  <a:ext cx="1826280" cy="1960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950080" y="3876480"/>
                  <a:ext cx="1177200" cy="1276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6257520" y="4179960"/>
                  <a:ext cx="612360" cy="65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6514920" y="4456080"/>
                  <a:ext cx="122400" cy="131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V="1">
                  <a:off x="6575760" y="3744360"/>
                  <a:ext cx="945000" cy="763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589080" y="4573440"/>
                  <a:ext cx="563400" cy="922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1" name=""/>
                <p:cNvGrpSpPr/>
                <p:nvPr/>
              </p:nvGrpSpPr>
              <p:grpSpPr>
                <a:xfrm>
                  <a:off x="6938280" y="4949280"/>
                  <a:ext cx="97560" cy="170280"/>
                  <a:chOff x="6938280" y="4949280"/>
                  <a:chExt cx="97560" cy="170280"/>
                </a:xfrm>
              </p:grpSpPr>
              <p:sp>
                <p:nvSpPr>
                  <p:cNvPr id="212" name=""/>
                  <p:cNvSpPr/>
                  <p:nvPr/>
                </p:nvSpPr>
                <p:spPr>
                  <a:xfrm flipV="1">
                    <a:off x="6950520" y="5041080"/>
                    <a:ext cx="85320" cy="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flipH="1" flipV="1">
                    <a:off x="6938280" y="4949280"/>
                    <a:ext cx="85320" cy="104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4" name=""/>
                <p:cNvGrpSpPr/>
                <p:nvPr/>
              </p:nvGrpSpPr>
              <p:grpSpPr>
                <a:xfrm>
                  <a:off x="7097760" y="4106520"/>
                  <a:ext cx="97560" cy="171000"/>
                  <a:chOff x="7097760" y="4106520"/>
                  <a:chExt cx="97560" cy="17100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 flipV="1">
                    <a:off x="7110000" y="4198680"/>
                    <a:ext cx="85320" cy="78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flipH="1" flipV="1">
                    <a:off x="7097760" y="4106520"/>
                    <a:ext cx="85320" cy="105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7" name=""/>
                <p:cNvSpPr/>
                <p:nvPr/>
              </p:nvSpPr>
              <p:spPr>
                <a:xfrm>
                  <a:off x="5521320" y="3508200"/>
                  <a:ext cx="1030680" cy="473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546160" y="3863880"/>
                  <a:ext cx="760320" cy="316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4638240" y="3389400"/>
                  <a:ext cx="1705320" cy="434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Times New Roman"/>
                    </a:rPr>
                    <a:t>Wavefront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V="1">
                  <a:off x="5805360" y="3494160"/>
                  <a:ext cx="721440" cy="13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805360" y="3625920"/>
                  <a:ext cx="684360" cy="223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67280" y="3548160"/>
                  <a:ext cx="993600" cy="736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Times New Roman"/>
                    </a:rPr>
                    <a:t>Ra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3" name=""/>
              <p:cNvSpPr/>
              <p:nvPr/>
            </p:nvSpPr>
            <p:spPr>
              <a:xfrm>
                <a:off x="6220800" y="4271760"/>
                <a:ext cx="379800" cy="46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47BA-79ED-4E55-A262-99E16EAE19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Wave Equ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51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is is the equation that relates wave speed, frequency and wave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” is sometimes substituted for “v” when the wave is l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711360" y="2133720"/>
                <a:ext cx="375912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f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3B33-4FFC-4A9B-B0C2-D8458D4EC9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Reflection &amp; Transmission of Puls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79400" y="1244160"/>
            <a:ext cx="777240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en a pulse moves from one medium into another, some of the pulse is reflected and some is transmit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398600" y="2801880"/>
            <a:ext cx="6502320" cy="1573200"/>
            <a:chOff x="1398600" y="2801880"/>
            <a:chExt cx="6502320" cy="1573200"/>
          </a:xfrm>
        </p:grpSpPr>
        <p:sp>
          <p:nvSpPr>
            <p:cNvPr id="230" name=""/>
            <p:cNvSpPr/>
            <p:nvPr/>
          </p:nvSpPr>
          <p:spPr>
            <a:xfrm>
              <a:off x="1398600" y="2801880"/>
              <a:ext cx="6502320" cy="157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1474200" y="2844720"/>
              <a:ext cx="6342120" cy="1472400"/>
              <a:chOff x="1474200" y="2844720"/>
              <a:chExt cx="6342120" cy="1472400"/>
            </a:xfrm>
          </p:grpSpPr>
          <p:grpSp>
            <p:nvGrpSpPr>
              <p:cNvPr id="232" name=""/>
              <p:cNvGrpSpPr/>
              <p:nvPr/>
            </p:nvGrpSpPr>
            <p:grpSpPr>
              <a:xfrm>
                <a:off x="1474200" y="3173040"/>
                <a:ext cx="6342120" cy="1144080"/>
                <a:chOff x="1474200" y="3173040"/>
                <a:chExt cx="6342120" cy="114408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75720" y="3173040"/>
                  <a:ext cx="6240600" cy="636840"/>
                  <a:chOff x="1575720" y="3173040"/>
                  <a:chExt cx="6240600" cy="63684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>
                    <a:off x="1821960" y="3173040"/>
                    <a:ext cx="1871640" cy="62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301" h="2861">
                        <a:moveTo>
                          <a:pt x="0" y="1440"/>
                        </a:moveTo>
                        <a:cubicBezTo>
                          <a:pt x="360" y="720"/>
                          <a:pt x="720" y="0"/>
                          <a:pt x="1080" y="0"/>
                        </a:cubicBezTo>
                        <a:cubicBezTo>
                          <a:pt x="1440" y="0"/>
                          <a:pt x="1800" y="963"/>
                          <a:pt x="2160" y="1440"/>
                        </a:cubicBezTo>
                        <a:cubicBezTo>
                          <a:pt x="2520" y="1917"/>
                          <a:pt x="2883" y="2861"/>
                          <a:pt x="3240" y="2861"/>
                        </a:cubicBezTo>
                        <a:cubicBezTo>
                          <a:pt x="3597" y="2861"/>
                          <a:pt x="4127" y="1674"/>
                          <a:pt x="4301" y="144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2737080" y="3502440"/>
                    <a:ext cx="1526760" cy="3074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1575720" y="3259080"/>
                    <a:ext cx="6240600" cy="228600"/>
                    <a:chOff x="1575720" y="3259080"/>
                    <a:chExt cx="6240600" cy="22860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821960" y="3486960"/>
                      <a:ext cx="5994360" cy="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2772000" y="3487680"/>
                      <a:ext cx="1399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>
                      <a:off x="4197240" y="3487680"/>
                      <a:ext cx="3155760" cy="0"/>
                    </a:xfrm>
                    <a:prstGeom prst="line">
                      <a:avLst/>
                    </a:prstGeom>
                    <a:ln w="41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2581200" y="3259080"/>
                      <a:ext cx="9414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flipH="1">
                      <a:off x="1575720" y="3480480"/>
                      <a:ext cx="2415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1474200" y="3709800"/>
                  <a:ext cx="6176880" cy="607320"/>
                  <a:chOff x="1474200" y="3709800"/>
                  <a:chExt cx="6176880" cy="60732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>
                    <a:off x="1694880" y="3830400"/>
                    <a:ext cx="1871280" cy="376560"/>
                  </a:xfrm>
                  <a:custGeom>
                    <a:avLst/>
                    <a:gdLst/>
                    <a:ahLst/>
                    <a:rect l="l" t="t" r="r" b="b"/>
                    <a:pathLst>
                      <a:path w="4301" h="2861">
                        <a:moveTo>
                          <a:pt x="0" y="1440"/>
                        </a:moveTo>
                        <a:cubicBezTo>
                          <a:pt x="360" y="720"/>
                          <a:pt x="720" y="0"/>
                          <a:pt x="1080" y="0"/>
                        </a:cubicBezTo>
                        <a:cubicBezTo>
                          <a:pt x="1440" y="0"/>
                          <a:pt x="1800" y="963"/>
                          <a:pt x="2160" y="1440"/>
                        </a:cubicBezTo>
                        <a:cubicBezTo>
                          <a:pt x="2520" y="1917"/>
                          <a:pt x="2883" y="2861"/>
                          <a:pt x="3240" y="2861"/>
                        </a:cubicBezTo>
                        <a:cubicBezTo>
                          <a:pt x="3597" y="2861"/>
                          <a:pt x="4127" y="1674"/>
                          <a:pt x="4301" y="144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1668600" y="3709800"/>
                    <a:ext cx="1526760" cy="3074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1656720" y="4023720"/>
                    <a:ext cx="5994360" cy="0"/>
                  </a:xfrm>
                  <a:prstGeom prst="line">
                    <a:avLst/>
                  </a:prstGeom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5215680" y="4024080"/>
                    <a:ext cx="1972080" cy="0"/>
                  </a:xfrm>
                  <a:prstGeom prst="line">
                    <a:avLst/>
                  </a:prstGeom>
                  <a:ln w="41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flipH="1">
                    <a:off x="1753920" y="4167360"/>
                    <a:ext cx="941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 flipH="1">
                    <a:off x="1474200" y="4024080"/>
                    <a:ext cx="1145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3523320" y="4024080"/>
                    <a:ext cx="508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4329000" y="3837600"/>
                    <a:ext cx="1871280" cy="376560"/>
                  </a:xfrm>
                  <a:custGeom>
                    <a:avLst/>
                    <a:gdLst/>
                    <a:ahLst/>
                    <a:rect l="l" t="t" r="r" b="b"/>
                    <a:pathLst>
                      <a:path w="4301" h="2861">
                        <a:moveTo>
                          <a:pt x="0" y="1440"/>
                        </a:moveTo>
                        <a:cubicBezTo>
                          <a:pt x="360" y="720"/>
                          <a:pt x="720" y="0"/>
                          <a:pt x="1080" y="0"/>
                        </a:cubicBezTo>
                        <a:cubicBezTo>
                          <a:pt x="1440" y="0"/>
                          <a:pt x="1800" y="963"/>
                          <a:pt x="2160" y="1440"/>
                        </a:cubicBezTo>
                        <a:cubicBezTo>
                          <a:pt x="2520" y="1917"/>
                          <a:pt x="2883" y="2861"/>
                          <a:pt x="3240" y="2861"/>
                        </a:cubicBezTo>
                        <a:cubicBezTo>
                          <a:pt x="3597" y="2861"/>
                          <a:pt x="4127" y="1674"/>
                          <a:pt x="4301" y="1440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5126400" y="4045680"/>
                    <a:ext cx="1259640" cy="2714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flipV="1">
                    <a:off x="3994200" y="4016880"/>
                    <a:ext cx="330480" cy="68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5139000" y="3888360"/>
                    <a:ext cx="763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54" name=""/>
              <p:cNvSpPr/>
              <p:nvPr/>
            </p:nvSpPr>
            <p:spPr>
              <a:xfrm>
                <a:off x="2594160" y="2844720"/>
                <a:ext cx="393192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1600" spc="-1" strike="noStrike">
                    <a:solidFill>
                      <a:srgbClr val="000000"/>
                    </a:solidFill>
                    <a:latin typeface="Times New Roman"/>
                  </a:rPr>
                  <a:t>Light to Heavy Str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5" name=""/>
          <p:cNvGrpSpPr/>
          <p:nvPr/>
        </p:nvGrpSpPr>
        <p:grpSpPr>
          <a:xfrm>
            <a:off x="1424160" y="4540320"/>
            <a:ext cx="6502320" cy="1512720"/>
            <a:chOff x="1424160" y="4540320"/>
            <a:chExt cx="6502320" cy="1512720"/>
          </a:xfrm>
        </p:grpSpPr>
        <p:sp>
          <p:nvSpPr>
            <p:cNvPr id="256" name=""/>
            <p:cNvSpPr/>
            <p:nvPr/>
          </p:nvSpPr>
          <p:spPr>
            <a:xfrm>
              <a:off x="1424160" y="4540320"/>
              <a:ext cx="6502320" cy="151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1499760" y="4583160"/>
              <a:ext cx="6317280" cy="1426320"/>
              <a:chOff x="1499760" y="4583160"/>
              <a:chExt cx="6317280" cy="142632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1499760" y="4833360"/>
                <a:ext cx="6317280" cy="1176120"/>
                <a:chOff x="1499760" y="4833360"/>
                <a:chExt cx="6317280" cy="117612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1572840" y="4833360"/>
                  <a:ext cx="6244200" cy="652680"/>
                  <a:chOff x="1572840" y="4833360"/>
                  <a:chExt cx="6244200" cy="65268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1822320" y="4833360"/>
                    <a:ext cx="1871640" cy="628560"/>
                  </a:xfrm>
                  <a:custGeom>
                    <a:avLst/>
                    <a:gdLst/>
                    <a:ahLst/>
                    <a:rect l="l" t="t" r="r" b="b"/>
                    <a:pathLst>
                      <a:path w="4301" h="2861">
                        <a:moveTo>
                          <a:pt x="0" y="1440"/>
                        </a:moveTo>
                        <a:cubicBezTo>
                          <a:pt x="360" y="720"/>
                          <a:pt x="720" y="0"/>
                          <a:pt x="1080" y="0"/>
                        </a:cubicBezTo>
                        <a:cubicBezTo>
                          <a:pt x="1440" y="0"/>
                          <a:pt x="1800" y="963"/>
                          <a:pt x="2160" y="1440"/>
                        </a:cubicBezTo>
                        <a:cubicBezTo>
                          <a:pt x="2520" y="1917"/>
                          <a:pt x="2883" y="2861"/>
                          <a:pt x="3240" y="2861"/>
                        </a:cubicBezTo>
                        <a:cubicBezTo>
                          <a:pt x="3597" y="2861"/>
                          <a:pt x="4127" y="1674"/>
                          <a:pt x="4301" y="1440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2737440" y="5170680"/>
                    <a:ext cx="1526760" cy="315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62" name=""/>
                  <p:cNvGrpSpPr/>
                  <p:nvPr/>
                </p:nvGrpSpPr>
                <p:grpSpPr>
                  <a:xfrm>
                    <a:off x="1572840" y="4919760"/>
                    <a:ext cx="6244200" cy="229320"/>
                    <a:chOff x="1572840" y="4919760"/>
                    <a:chExt cx="6244200" cy="229320"/>
                  </a:xfrm>
                </p:grpSpPr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1822320" y="5148360"/>
                      <a:ext cx="5994720" cy="0"/>
                    </a:xfrm>
                    <a:prstGeom prst="line">
                      <a:avLst/>
                    </a:prstGeom>
                    <a:ln cap="rnd" w="936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2769120" y="5149080"/>
                      <a:ext cx="139968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4194360" y="5149080"/>
                      <a:ext cx="31557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2581560" y="4919760"/>
                      <a:ext cx="9414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" name=""/>
                    <p:cNvSpPr/>
                    <p:nvPr/>
                  </p:nvSpPr>
                  <p:spPr>
                    <a:xfrm flipH="1">
                      <a:off x="1572840" y="5141880"/>
                      <a:ext cx="241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1499760" y="5499720"/>
                  <a:ext cx="6177240" cy="509760"/>
                  <a:chOff x="1499760" y="5499720"/>
                  <a:chExt cx="6177240" cy="50976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 flipV="1">
                    <a:off x="1682280" y="5499360"/>
                    <a:ext cx="187164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01" h="2861">
                        <a:moveTo>
                          <a:pt x="0" y="1440"/>
                        </a:moveTo>
                        <a:cubicBezTo>
                          <a:pt x="360" y="720"/>
                          <a:pt x="720" y="0"/>
                          <a:pt x="1080" y="0"/>
                        </a:cubicBezTo>
                        <a:cubicBezTo>
                          <a:pt x="1440" y="0"/>
                          <a:pt x="1800" y="963"/>
                          <a:pt x="2160" y="1440"/>
                        </a:cubicBezTo>
                        <a:cubicBezTo>
                          <a:pt x="2520" y="1917"/>
                          <a:pt x="2883" y="2861"/>
                          <a:pt x="3240" y="2861"/>
                        </a:cubicBezTo>
                        <a:cubicBezTo>
                          <a:pt x="3597" y="2861"/>
                          <a:pt x="4127" y="1674"/>
                          <a:pt x="4301" y="1440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1592280" y="5701320"/>
                    <a:ext cx="1526760" cy="3081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1682280" y="5686200"/>
                    <a:ext cx="5994720" cy="0"/>
                  </a:xfrm>
                  <a:prstGeom prst="line">
                    <a:avLst/>
                  </a:prstGeom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5330160" y="5686920"/>
                    <a:ext cx="19720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H="1">
                    <a:off x="1881360" y="5514840"/>
                    <a:ext cx="941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1499760" y="5686920"/>
                    <a:ext cx="11451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3548880" y="5686920"/>
                    <a:ext cx="5086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4354560" y="5500080"/>
                    <a:ext cx="187128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01" h="2861">
                        <a:moveTo>
                          <a:pt x="0" y="1440"/>
                        </a:moveTo>
                        <a:cubicBezTo>
                          <a:pt x="360" y="720"/>
                          <a:pt x="720" y="0"/>
                          <a:pt x="1080" y="0"/>
                        </a:cubicBezTo>
                        <a:cubicBezTo>
                          <a:pt x="1440" y="0"/>
                          <a:pt x="1800" y="963"/>
                          <a:pt x="2160" y="1440"/>
                        </a:cubicBezTo>
                        <a:cubicBezTo>
                          <a:pt x="2520" y="1917"/>
                          <a:pt x="2883" y="2861"/>
                          <a:pt x="3240" y="2861"/>
                        </a:cubicBezTo>
                        <a:cubicBezTo>
                          <a:pt x="3597" y="2861"/>
                          <a:pt x="4127" y="1674"/>
                          <a:pt x="4301" y="1440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5126400" y="5701320"/>
                    <a:ext cx="1259640" cy="2721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 flipV="1">
                    <a:off x="4044960" y="5684760"/>
                    <a:ext cx="330840" cy="68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5164560" y="5550840"/>
                    <a:ext cx="763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0" name=""/>
              <p:cNvSpPr/>
              <p:nvPr/>
            </p:nvSpPr>
            <p:spPr>
              <a:xfrm>
                <a:off x="2899800" y="4583160"/>
                <a:ext cx="474624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1600" spc="-1" strike="noStrike">
                    <a:solidFill>
                      <a:srgbClr val="000000"/>
                    </a:solidFill>
                    <a:latin typeface="Times New Roman"/>
                  </a:rPr>
                  <a:t>Heavy to Light Str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g 224 Questions 14A 1-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3FC4-3205-4448-B5B5-BDFE7F75B2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54200" y="933480"/>
            <a:ext cx="77724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aves will bounce (reflect) off a flat surface at the same angle at which they hit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line at right angles to the surface is called the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303800" y="3397320"/>
            <a:ext cx="3227040" cy="3076560"/>
            <a:chOff x="4303800" y="3397320"/>
            <a:chExt cx="3227040" cy="3076560"/>
          </a:xfrm>
        </p:grpSpPr>
        <p:grpSp>
          <p:nvGrpSpPr>
            <p:cNvPr id="284" name=""/>
            <p:cNvGrpSpPr/>
            <p:nvPr/>
          </p:nvGrpSpPr>
          <p:grpSpPr>
            <a:xfrm>
              <a:off x="4303800" y="3397320"/>
              <a:ext cx="3227040" cy="3076560"/>
              <a:chOff x="4303800" y="3397320"/>
              <a:chExt cx="3227040" cy="3076560"/>
            </a:xfrm>
          </p:grpSpPr>
          <p:grpSp>
            <p:nvGrpSpPr>
              <p:cNvPr id="285" name=""/>
              <p:cNvGrpSpPr/>
              <p:nvPr/>
            </p:nvGrpSpPr>
            <p:grpSpPr>
              <a:xfrm>
                <a:off x="4303800" y="3397320"/>
                <a:ext cx="3227040" cy="3076560"/>
                <a:chOff x="4303800" y="3397320"/>
                <a:chExt cx="3227040" cy="30765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4303800" y="3397320"/>
                  <a:ext cx="3227040" cy="30765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7" name=""/>
                <p:cNvGrpSpPr/>
                <p:nvPr/>
              </p:nvGrpSpPr>
              <p:grpSpPr>
                <a:xfrm>
                  <a:off x="5266440" y="3565080"/>
                  <a:ext cx="1856520" cy="2538360"/>
                  <a:chOff x="5266440" y="3565080"/>
                  <a:chExt cx="1856520" cy="2538360"/>
                </a:xfrm>
              </p:grpSpPr>
              <p:grpSp>
                <p:nvGrpSpPr>
                  <p:cNvPr id="288" name=""/>
                  <p:cNvGrpSpPr/>
                  <p:nvPr/>
                </p:nvGrpSpPr>
                <p:grpSpPr>
                  <a:xfrm>
                    <a:off x="5266440" y="3565080"/>
                    <a:ext cx="1623600" cy="1511640"/>
                    <a:chOff x="5266440" y="3565080"/>
                    <a:chExt cx="1623600" cy="1511640"/>
                  </a:xfrm>
                </p:grpSpPr>
                <p:sp>
                  <p:nvSpPr>
                    <p:cNvPr id="289" name=""/>
                    <p:cNvSpPr/>
                    <p:nvPr/>
                  </p:nvSpPr>
                  <p:spPr>
                    <a:xfrm flipH="1">
                      <a:off x="5266440" y="3565080"/>
                      <a:ext cx="649800" cy="5403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 flipH="1">
                      <a:off x="5428440" y="3726720"/>
                      <a:ext cx="649800" cy="5403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 flipH="1">
                      <a:off x="5590800" y="3888720"/>
                      <a:ext cx="649800" cy="5403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 flipH="1">
                      <a:off x="5753160" y="4050720"/>
                      <a:ext cx="650160" cy="5403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 flipH="1">
                      <a:off x="5915160" y="4212720"/>
                      <a:ext cx="649800" cy="5403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flipH="1">
                      <a:off x="6077520" y="4374360"/>
                      <a:ext cx="649800" cy="5403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" name=""/>
                    <p:cNvSpPr/>
                    <p:nvPr/>
                  </p:nvSpPr>
                  <p:spPr>
                    <a:xfrm flipH="1">
                      <a:off x="6239880" y="4536360"/>
                      <a:ext cx="650160" cy="5403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6" name=""/>
                  <p:cNvGrpSpPr/>
                  <p:nvPr/>
                </p:nvGrpSpPr>
                <p:grpSpPr>
                  <a:xfrm>
                    <a:off x="5374800" y="4321080"/>
                    <a:ext cx="1623600" cy="1511280"/>
                    <a:chOff x="5374800" y="4321080"/>
                    <a:chExt cx="1623600" cy="1511280"/>
                  </a:xfrm>
                </p:grpSpPr>
                <p:sp>
                  <p:nvSpPr>
                    <p:cNvPr id="297" name=""/>
                    <p:cNvSpPr/>
                    <p:nvPr/>
                  </p:nvSpPr>
                  <p:spPr>
                    <a:xfrm flipH="1" flipV="1">
                      <a:off x="5374800" y="5292360"/>
                      <a:ext cx="649800" cy="5400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 flipH="1" flipV="1">
                      <a:off x="5536800" y="5130720"/>
                      <a:ext cx="649800" cy="5400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 flipH="1" flipV="1">
                      <a:off x="5699160" y="4968720"/>
                      <a:ext cx="649800" cy="5400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flipH="1" flipV="1">
                      <a:off x="5861520" y="4806720"/>
                      <a:ext cx="650160" cy="5400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 flipH="1" flipV="1">
                      <a:off x="6023520" y="4645080"/>
                      <a:ext cx="649800" cy="5400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 flipH="1" flipV="1">
                      <a:off x="6185880" y="4483080"/>
                      <a:ext cx="649800" cy="5400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 flipV="1">
                      <a:off x="6348240" y="4321080"/>
                      <a:ext cx="650160" cy="5400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04" name=""/>
                  <p:cNvSpPr/>
                  <p:nvPr/>
                </p:nvSpPr>
                <p:spPr>
                  <a:xfrm>
                    <a:off x="5483880" y="3889800"/>
                    <a:ext cx="1081800" cy="917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6566040" y="3565080"/>
                    <a:ext cx="0" cy="25383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 flipV="1">
                    <a:off x="5537520" y="4807440"/>
                    <a:ext cx="1028160" cy="862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5483880" y="3889800"/>
                    <a:ext cx="649080" cy="539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arrow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flipH="1">
                    <a:off x="5970240" y="4807800"/>
                    <a:ext cx="595080" cy="485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6581520" y="3972240"/>
                    <a:ext cx="541440" cy="1458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0" name=""/>
                <p:cNvSpPr/>
                <p:nvPr/>
              </p:nvSpPr>
              <p:spPr>
                <a:xfrm flipH="1">
                  <a:off x="4408200" y="4797360"/>
                  <a:ext cx="2157480" cy="19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1" name=""/>
              <p:cNvSpPr/>
              <p:nvPr/>
            </p:nvSpPr>
            <p:spPr>
              <a:xfrm>
                <a:off x="6576120" y="3597120"/>
                <a:ext cx="582120" cy="24667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4395600" y="4467240"/>
              <a:ext cx="19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Times New Roman"/>
                </a:rPr>
                <a:t>Norm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6F0F-1B61-4D5C-AFAC-E080F2BDB2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Curved Reflect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4253040" y="2233440"/>
            <a:ext cx="3894120" cy="3049920"/>
            <a:chOff x="4253040" y="2233440"/>
            <a:chExt cx="3894120" cy="3049920"/>
          </a:xfrm>
        </p:grpSpPr>
        <p:sp>
          <p:nvSpPr>
            <p:cNvPr id="315" name=""/>
            <p:cNvSpPr/>
            <p:nvPr/>
          </p:nvSpPr>
          <p:spPr>
            <a:xfrm>
              <a:off x="4253040" y="2233440"/>
              <a:ext cx="3894120" cy="3049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5862960" y="2475000"/>
              <a:ext cx="2237400" cy="2401920"/>
              <a:chOff x="5862960" y="2475000"/>
              <a:chExt cx="2237400" cy="2401920"/>
            </a:xfrm>
          </p:grpSpPr>
          <p:sp>
            <p:nvSpPr>
              <p:cNvPr id="317" name=""/>
              <p:cNvSpPr/>
              <p:nvPr/>
            </p:nvSpPr>
            <p:spPr>
              <a:xfrm>
                <a:off x="5862960" y="2603520"/>
                <a:ext cx="2208240" cy="2140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25880" y="2475000"/>
                <a:ext cx="1374480" cy="240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6120000" y="2493720"/>
              <a:ext cx="1778040" cy="2350440"/>
              <a:chOff x="6120000" y="2493720"/>
              <a:chExt cx="1778040" cy="2350440"/>
            </a:xfrm>
          </p:grpSpPr>
          <p:sp>
            <p:nvSpPr>
              <p:cNvPr id="320" name=""/>
              <p:cNvSpPr/>
              <p:nvPr/>
            </p:nvSpPr>
            <p:spPr>
              <a:xfrm>
                <a:off x="6120000" y="2810160"/>
                <a:ext cx="1762920" cy="1732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809400" y="2493720"/>
                <a:ext cx="1088640" cy="235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373080" y="2860560"/>
              <a:ext cx="1297800" cy="1698480"/>
              <a:chOff x="6373080" y="2860560"/>
              <a:chExt cx="1297800" cy="1698480"/>
            </a:xfrm>
          </p:grpSpPr>
          <p:sp>
            <p:nvSpPr>
              <p:cNvPr id="323" name=""/>
              <p:cNvSpPr/>
              <p:nvPr/>
            </p:nvSpPr>
            <p:spPr>
              <a:xfrm>
                <a:off x="6373080" y="3089160"/>
                <a:ext cx="1286640" cy="1251720"/>
              </a:xfrm>
              <a:prstGeom prst="ellipse">
                <a:avLst/>
              </a:prstGeom>
              <a:solidFill>
                <a:srgbClr val="ffffff">
                  <a:alpha val="85000"/>
                </a:srgbClr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876360" y="2860560"/>
                <a:ext cx="794520" cy="1698480"/>
              </a:xfrm>
              <a:prstGeom prst="rect">
                <a:avLst/>
              </a:prstGeom>
              <a:solidFill>
                <a:srgbClr val="ffffff">
                  <a:alpha val="8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6893280" y="2941560"/>
              <a:ext cx="883800" cy="162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345000" y="3095280"/>
              <a:ext cx="0" cy="127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74280" y="3091680"/>
              <a:ext cx="0" cy="127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805000" y="3103560"/>
              <a:ext cx="0" cy="127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34640" y="3113280"/>
              <a:ext cx="0" cy="127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46560" y="3420360"/>
              <a:ext cx="134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886000" y="2832840"/>
              <a:ext cx="570240" cy="55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79680" y="4094640"/>
              <a:ext cx="134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941080" y="4095720"/>
              <a:ext cx="582480" cy="56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570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nvex Reflectors – make the waves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diverge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(spread ou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14ED-C076-46AC-9084-03911E6AFC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Curved Reflect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75200" cy="30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ncave reflectors – make the wave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converge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(meet at a poi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5079960" y="1835280"/>
            <a:ext cx="3452760" cy="3311280"/>
            <a:chOff x="5079960" y="1835280"/>
            <a:chExt cx="3452760" cy="3311280"/>
          </a:xfrm>
        </p:grpSpPr>
        <p:sp>
          <p:nvSpPr>
            <p:cNvPr id="338" name=""/>
            <p:cNvSpPr/>
            <p:nvPr/>
          </p:nvSpPr>
          <p:spPr>
            <a:xfrm>
              <a:off x="5079960" y="1835280"/>
              <a:ext cx="3452760" cy="331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5493960" y="1940040"/>
              <a:ext cx="2692440" cy="2980800"/>
              <a:chOff x="5493960" y="1940040"/>
              <a:chExt cx="2692440" cy="2980800"/>
            </a:xfrm>
          </p:grpSpPr>
          <p:grpSp>
            <p:nvGrpSpPr>
              <p:cNvPr id="340" name=""/>
              <p:cNvGrpSpPr/>
              <p:nvPr/>
            </p:nvGrpSpPr>
            <p:grpSpPr>
              <a:xfrm>
                <a:off x="5578560" y="1940040"/>
                <a:ext cx="2607840" cy="2976120"/>
                <a:chOff x="5578560" y="1940040"/>
                <a:chExt cx="2607840" cy="2976120"/>
              </a:xfrm>
            </p:grpSpPr>
            <p:sp>
              <p:nvSpPr>
                <p:cNvPr id="341" name=""/>
                <p:cNvSpPr/>
                <p:nvPr/>
              </p:nvSpPr>
              <p:spPr>
                <a:xfrm flipH="1">
                  <a:off x="5600160" y="2340720"/>
                  <a:ext cx="2585880" cy="2193480"/>
                </a:xfrm>
                <a:prstGeom prst="ellipse">
                  <a:avLst/>
                </a:prstGeom>
                <a:solidFill>
                  <a:srgbClr val="ffffff">
                    <a:alpha val="85000"/>
                  </a:srgbClr>
                </a:solidFill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H="1">
                  <a:off x="5578200" y="1940040"/>
                  <a:ext cx="1596600" cy="2976120"/>
                </a:xfrm>
                <a:prstGeom prst="rect">
                  <a:avLst/>
                </a:prstGeom>
                <a:solidFill>
                  <a:srgbClr val="ffffff">
                    <a:alpha val="8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3" name=""/>
              <p:cNvSpPr/>
              <p:nvPr/>
            </p:nvSpPr>
            <p:spPr>
              <a:xfrm>
                <a:off x="6190200" y="2791080"/>
                <a:ext cx="1538640" cy="1304640"/>
              </a:xfrm>
              <a:prstGeom prst="ellipse">
                <a:avLst/>
              </a:prstGeom>
              <a:solidFill>
                <a:srgbClr val="ffffff">
                  <a:alpha val="85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621120" y="3156840"/>
                <a:ext cx="693360" cy="588240"/>
              </a:xfrm>
              <a:prstGeom prst="ellipse">
                <a:avLst/>
              </a:prstGeom>
              <a:solidFill>
                <a:srgbClr val="ffffff">
                  <a:alpha val="76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493960" y="2251800"/>
                <a:ext cx="1481040" cy="252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636600" y="1963800"/>
                <a:ext cx="506880" cy="715320"/>
              </a:xfrm>
              <a:prstGeom prst="rect">
                <a:avLst/>
              </a:prstGeom>
              <a:solidFill>
                <a:srgbClr val="ffffff">
                  <a:alpha val="8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597360" y="4174560"/>
                <a:ext cx="562680" cy="746280"/>
              </a:xfrm>
              <a:prstGeom prst="rect">
                <a:avLst/>
              </a:prstGeom>
              <a:solidFill>
                <a:srgbClr val="ffffff">
                  <a:alpha val="8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517160" y="2493720"/>
                <a:ext cx="0" cy="18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063560" y="2487600"/>
                <a:ext cx="0" cy="1863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612840" y="2505600"/>
                <a:ext cx="0" cy="18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159240" y="2519640"/>
                <a:ext cx="0" cy="18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507640" y="2968560"/>
                <a:ext cx="251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563800" y="3953160"/>
                <a:ext cx="241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894800" y="2822040"/>
                <a:ext cx="0" cy="1258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6447960" y="2950560"/>
                <a:ext cx="1576440" cy="76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 flipV="1">
                <a:off x="6410160" y="3062880"/>
                <a:ext cx="1583640" cy="90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A45E-7A6C-4DDA-88C4-28D8C02431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Refra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bending of a wave as it goes from one medium into an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en a wave travels from one medium into another it’s speed al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f the wave hits the boundary at an angle, one side will change speed before the other, skewing the wave around and changing it’s direction of propag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F974-9EF8-4D19-A6F3-242B5BD220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906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Refra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440" y="1418760"/>
            <a:ext cx="417204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ecause the frequency of the wave is determined by the source, if the wave slows down, it’s wavelength must decrease. (And vice ver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781520" y="2200320"/>
            <a:ext cx="4019760" cy="2771640"/>
            <a:chOff x="4781520" y="2200320"/>
            <a:chExt cx="4019760" cy="2771640"/>
          </a:xfrm>
        </p:grpSpPr>
        <p:sp>
          <p:nvSpPr>
            <p:cNvPr id="362" name=""/>
            <p:cNvSpPr/>
            <p:nvPr/>
          </p:nvSpPr>
          <p:spPr>
            <a:xfrm>
              <a:off x="4781520" y="2200320"/>
              <a:ext cx="4019760" cy="2771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797160" y="2476440"/>
              <a:ext cx="0" cy="23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5456880" y="2342880"/>
              <a:ext cx="784440" cy="59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5662080" y="2504880"/>
              <a:ext cx="784440" cy="59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5867280" y="2666520"/>
              <a:ext cx="784440" cy="59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6072480" y="2857320"/>
              <a:ext cx="736200" cy="56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6277680" y="3171600"/>
              <a:ext cx="531000" cy="40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6483600" y="3495600"/>
              <a:ext cx="325440" cy="24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6688080" y="3819240"/>
              <a:ext cx="12060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6809040" y="2932920"/>
              <a:ext cx="9648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6809040" y="2971440"/>
              <a:ext cx="253440" cy="51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6809040" y="3047760"/>
              <a:ext cx="386280" cy="77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6881760" y="3095280"/>
              <a:ext cx="44640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7038720" y="3123720"/>
              <a:ext cx="44640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7171560" y="3200040"/>
              <a:ext cx="44640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316280" y="3228840"/>
              <a:ext cx="44640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461000" y="3285720"/>
              <a:ext cx="44676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819400" y="2657160"/>
              <a:ext cx="977760" cy="75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797160" y="3409560"/>
              <a:ext cx="108612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89880" y="4286160"/>
              <a:ext cx="190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Times New Roman"/>
                </a:rPr>
                <a:t>Fast Medi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990120" y="4304880"/>
              <a:ext cx="172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Times New Roman"/>
                </a:rPr>
                <a:t>Slow Medi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AED2-086C-4756-9313-AB8FE4F70F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Angles in refra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633680"/>
            <a:ext cx="4141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angle between the </a:t>
            </a:r>
            <a:r>
              <a:rPr b="0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incident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(incoming) ray and the normal is called the </a:t>
            </a:r>
            <a:r>
              <a:rPr b="0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angle of inc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angle between the refracted ray and the normal is called the </a:t>
            </a:r>
            <a:r>
              <a:rPr b="0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angle of refraction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4867200" y="2421000"/>
            <a:ext cx="4276440" cy="2923920"/>
            <a:chOff x="4867200" y="2421000"/>
            <a:chExt cx="4276440" cy="2923920"/>
          </a:xfrm>
        </p:grpSpPr>
        <p:sp>
          <p:nvSpPr>
            <p:cNvPr id="386" name=""/>
            <p:cNvSpPr/>
            <p:nvPr/>
          </p:nvSpPr>
          <p:spPr>
            <a:xfrm>
              <a:off x="4934880" y="2421000"/>
              <a:ext cx="4066920" cy="2923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931440" y="2727360"/>
              <a:ext cx="0" cy="250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5576040" y="2588040"/>
              <a:ext cx="1366920" cy="1647360"/>
              <a:chOff x="5576040" y="2588040"/>
              <a:chExt cx="1366920" cy="1647360"/>
            </a:xfrm>
          </p:grpSpPr>
          <p:sp>
            <p:nvSpPr>
              <p:cNvPr id="389" name=""/>
              <p:cNvSpPr/>
              <p:nvPr/>
            </p:nvSpPr>
            <p:spPr>
              <a:xfrm flipH="1">
                <a:off x="5576040" y="2588040"/>
                <a:ext cx="793080" cy="622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5783400" y="2758680"/>
                <a:ext cx="793080" cy="622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5991120" y="2929320"/>
                <a:ext cx="793080" cy="622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6198480" y="3130560"/>
                <a:ext cx="744480" cy="5925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6405840" y="3461760"/>
                <a:ext cx="536760" cy="4320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6613920" y="3803760"/>
                <a:ext cx="329040" cy="2610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6820560" y="4145040"/>
                <a:ext cx="122040" cy="903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6943320" y="3209400"/>
              <a:ext cx="1110960" cy="1337040"/>
              <a:chOff x="6943320" y="3209400"/>
              <a:chExt cx="1110960" cy="1337040"/>
            </a:xfrm>
          </p:grpSpPr>
          <p:grpSp>
            <p:nvGrpSpPr>
              <p:cNvPr id="397" name=""/>
              <p:cNvGrpSpPr/>
              <p:nvPr/>
            </p:nvGrpSpPr>
            <p:grpSpPr>
              <a:xfrm>
                <a:off x="6943320" y="3209400"/>
                <a:ext cx="390600" cy="934200"/>
                <a:chOff x="6943320" y="3209400"/>
                <a:chExt cx="390600" cy="934200"/>
              </a:xfrm>
            </p:grpSpPr>
            <p:sp>
              <p:nvSpPr>
                <p:cNvPr id="398" name=""/>
                <p:cNvSpPr/>
                <p:nvPr/>
              </p:nvSpPr>
              <p:spPr>
                <a:xfrm flipV="1">
                  <a:off x="6943320" y="3209400"/>
                  <a:ext cx="97560" cy="25128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flipV="1">
                  <a:off x="6943320" y="3249000"/>
                  <a:ext cx="256320" cy="54252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flipV="1">
                  <a:off x="6943320" y="3329640"/>
                  <a:ext cx="390600" cy="8139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1" name=""/>
              <p:cNvSpPr/>
              <p:nvPr/>
            </p:nvSpPr>
            <p:spPr>
              <a:xfrm flipV="1">
                <a:off x="7016400" y="3380040"/>
                <a:ext cx="451440" cy="9651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7175520" y="3410280"/>
                <a:ext cx="451440" cy="9651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7309800" y="3490560"/>
                <a:ext cx="451440" cy="9651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7455960" y="3520800"/>
                <a:ext cx="451440" cy="9651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7602480" y="3581280"/>
                <a:ext cx="451800" cy="9651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5942160" y="2918880"/>
              <a:ext cx="988920" cy="79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931440" y="3713040"/>
              <a:ext cx="1099440" cy="39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867200" y="3326400"/>
              <a:ext cx="192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Times New Roman"/>
                </a:rPr>
                <a:t>Angle of Incid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946280" y="3659040"/>
              <a:ext cx="119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Times New Roman"/>
                </a:rPr>
                <a:t>Angle of Refra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125680" y="3704400"/>
              <a:ext cx="354636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409800" y="3404520"/>
              <a:ext cx="154080" cy="287280"/>
            </a:xfrm>
            <a:custGeom>
              <a:avLst/>
              <a:gdLst/>
              <a:ahLst/>
              <a:rect l="l" t="t" r="r" b="b"/>
              <a:pathLst>
                <a:path w="101" h="229">
                  <a:moveTo>
                    <a:pt x="0" y="229"/>
                  </a:moveTo>
                  <a:cubicBezTo>
                    <a:pt x="40" y="133"/>
                    <a:pt x="81" y="37"/>
                    <a:pt x="101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7415280" y="3692160"/>
              <a:ext cx="42480" cy="18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D3CE-1709-4A50-905A-53633F5152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Why Wave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 wave is a method of transferring energy from one place to another without having to move any ma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xamples of everyday waves include: water, light, sound, seismic w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y come in two forms: </a:t>
            </a:r>
            <a:r>
              <a:rPr b="0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Transverse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Longitud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06A4-8EA2-4401-B5A3-6D8C5E3F84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Refractive Inde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ow much a wave is bent depends on the refractive indices of the two m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Relative refractive index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)is a ratio of the speeds of the waves in the two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Absolute refractive index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(n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r n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)is a measure of how much the speed is slowed when entering a medium from air ( or vacu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2C12-8BF2-4478-B236-FA4B6620C0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Snell’s Law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23920" y="274608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Arial"/>
              </a:rPr>
              <a:t>n= refractive inde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Symbol"/>
                <a:ea typeface="Symbol"/>
              </a:rPr>
              <a:t></a:t>
            </a:r>
            <a:r>
              <a:rPr b="0" lang="en-NZ" sz="2700" spc="-1" strike="noStrike">
                <a:solidFill>
                  <a:srgbClr val="000000"/>
                </a:solidFill>
                <a:latin typeface="Arial"/>
              </a:rPr>
              <a:t>angle of incidence/refra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Arial"/>
              </a:rPr>
              <a:t>v= wave spe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Symbol"/>
                <a:ea typeface="Symbol"/>
              </a:rPr>
              <a:t></a:t>
            </a:r>
            <a:r>
              <a:rPr b="0" lang="en-NZ" sz="2700" spc="-1" strike="noStrike">
                <a:solidFill>
                  <a:srgbClr val="000000"/>
                </a:solidFill>
                <a:latin typeface="Arial"/>
              </a:rPr>
              <a:t>waveleng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Arial"/>
              </a:rPr>
              <a:t>Medium 1 is the one the wave is leaving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Arial"/>
              </a:rPr>
              <a:t>Medium 2 is the one it is entering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874880" y="1693800"/>
                <a:ext cx="553068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947E-4B69-41B4-9EA8-DC5B32D4DD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Diffra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bending of waves as they travel through gaps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smaller the gap, the more the diff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1709640" y="4334040"/>
            <a:ext cx="5727600" cy="2025360"/>
            <a:chOff x="1709640" y="4334040"/>
            <a:chExt cx="5727600" cy="2025360"/>
          </a:xfrm>
        </p:grpSpPr>
        <p:sp>
          <p:nvSpPr>
            <p:cNvPr id="421" name=""/>
            <p:cNvSpPr/>
            <p:nvPr/>
          </p:nvSpPr>
          <p:spPr>
            <a:xfrm>
              <a:off x="1709640" y="4334040"/>
              <a:ext cx="5727600" cy="202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2192400" y="5055480"/>
              <a:ext cx="4719240" cy="213840"/>
              <a:chOff x="2192400" y="5055480"/>
              <a:chExt cx="4719240" cy="213840"/>
            </a:xfrm>
          </p:grpSpPr>
          <p:sp>
            <p:nvSpPr>
              <p:cNvPr id="423" name=""/>
              <p:cNvSpPr/>
              <p:nvPr/>
            </p:nvSpPr>
            <p:spPr>
              <a:xfrm>
                <a:off x="2192400" y="5055480"/>
                <a:ext cx="1877040" cy="213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034600" y="5055480"/>
                <a:ext cx="1877040" cy="213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2928600" y="4643640"/>
              <a:ext cx="334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945880" y="4843080"/>
              <a:ext cx="334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943720" y="5055480"/>
              <a:ext cx="334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468600" y="5246280"/>
              <a:ext cx="215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799080" y="5259240"/>
              <a:ext cx="1489680" cy="232920"/>
            </a:xfrm>
            <a:custGeom>
              <a:avLst/>
              <a:gdLst/>
              <a:ahLst/>
              <a:rect l="l" t="t" r="r" b="b"/>
              <a:pathLst>
                <a:path w="704" h="159">
                  <a:moveTo>
                    <a:pt x="0" y="0"/>
                  </a:moveTo>
                  <a:cubicBezTo>
                    <a:pt x="115" y="76"/>
                    <a:pt x="231" y="153"/>
                    <a:pt x="348" y="156"/>
                  </a:cubicBezTo>
                  <a:cubicBezTo>
                    <a:pt x="465" y="159"/>
                    <a:pt x="642" y="44"/>
                    <a:pt x="704" y="1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315960" y="5246280"/>
              <a:ext cx="2552400" cy="511560"/>
            </a:xfrm>
            <a:custGeom>
              <a:avLst/>
              <a:gdLst/>
              <a:ahLst/>
              <a:rect l="l" t="t" r="r" b="b"/>
              <a:pathLst>
                <a:path w="1033" h="266">
                  <a:moveTo>
                    <a:pt x="0" y="0"/>
                  </a:moveTo>
                  <a:cubicBezTo>
                    <a:pt x="156" y="132"/>
                    <a:pt x="313" y="264"/>
                    <a:pt x="485" y="265"/>
                  </a:cubicBezTo>
                  <a:cubicBezTo>
                    <a:pt x="657" y="266"/>
                    <a:pt x="942" y="52"/>
                    <a:pt x="1033" y="9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71720" y="5070240"/>
              <a:ext cx="3858480" cy="970560"/>
            </a:xfrm>
            <a:custGeom>
              <a:avLst/>
              <a:gdLst/>
              <a:ahLst/>
              <a:rect l="l" t="t" r="r" b="b"/>
              <a:pathLst>
                <a:path w="1796" h="635">
                  <a:moveTo>
                    <a:pt x="0" y="111"/>
                  </a:moveTo>
                  <a:cubicBezTo>
                    <a:pt x="265" y="373"/>
                    <a:pt x="530" y="635"/>
                    <a:pt x="804" y="632"/>
                  </a:cubicBezTo>
                  <a:cubicBezTo>
                    <a:pt x="1078" y="629"/>
                    <a:pt x="1494" y="186"/>
                    <a:pt x="1645" y="93"/>
                  </a:cubicBezTo>
                  <a:cubicBezTo>
                    <a:pt x="1796" y="0"/>
                    <a:pt x="1752" y="37"/>
                    <a:pt x="1709" y="7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554360" y="4376520"/>
              <a:ext cx="0" cy="89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CE46-8383-4AF4-98B6-E711C69006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3157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Diffra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338120"/>
            <a:ext cx="7772400" cy="43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.or around ed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930320" y="1846440"/>
            <a:ext cx="5611680" cy="1871640"/>
            <a:chOff x="1930320" y="1846440"/>
            <a:chExt cx="5611680" cy="1871640"/>
          </a:xfrm>
        </p:grpSpPr>
        <p:sp>
          <p:nvSpPr>
            <p:cNvPr id="436" name=""/>
            <p:cNvSpPr/>
            <p:nvPr/>
          </p:nvSpPr>
          <p:spPr>
            <a:xfrm>
              <a:off x="1930320" y="1846440"/>
              <a:ext cx="5611680" cy="1871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2270160" y="2005920"/>
              <a:ext cx="4925880" cy="1485000"/>
              <a:chOff x="2270160" y="2005920"/>
              <a:chExt cx="4925880" cy="1485000"/>
            </a:xfrm>
          </p:grpSpPr>
          <p:sp>
            <p:nvSpPr>
              <p:cNvPr id="438" name=""/>
              <p:cNvSpPr/>
              <p:nvPr/>
            </p:nvSpPr>
            <p:spPr>
              <a:xfrm>
                <a:off x="2439720" y="2099160"/>
                <a:ext cx="4662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439720" y="2298240"/>
                <a:ext cx="4662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439720" y="2496960"/>
                <a:ext cx="4662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439720" y="2695680"/>
                <a:ext cx="4662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439720" y="2894760"/>
                <a:ext cx="4662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270160" y="2005920"/>
                <a:ext cx="2574360" cy="974880"/>
              </a:xfrm>
              <a:prstGeom prst="rtTriangl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4" name=""/>
              <p:cNvGrpSpPr/>
              <p:nvPr/>
            </p:nvGrpSpPr>
            <p:grpSpPr>
              <a:xfrm>
                <a:off x="4818240" y="3093480"/>
                <a:ext cx="2377800" cy="397440"/>
                <a:chOff x="4818240" y="3093480"/>
                <a:chExt cx="2377800" cy="39744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4818240" y="3093480"/>
                  <a:ext cx="2377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4818240" y="3291840"/>
                  <a:ext cx="2377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4818240" y="3490920"/>
                  <a:ext cx="2377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8" name=""/>
              <p:cNvSpPr/>
              <p:nvPr/>
            </p:nvSpPr>
            <p:spPr>
              <a:xfrm>
                <a:off x="3462840" y="2862360"/>
                <a:ext cx="1333800" cy="627120"/>
              </a:xfrm>
              <a:custGeom>
                <a:avLst/>
                <a:gdLst/>
                <a:ahLst/>
                <a:rect l="l" t="t" r="r" b="b"/>
                <a:pathLst>
                  <a:path w="713" h="356">
                    <a:moveTo>
                      <a:pt x="713" y="356"/>
                    </a:moveTo>
                    <a:cubicBezTo>
                      <a:pt x="516" y="349"/>
                      <a:pt x="320" y="342"/>
                      <a:pt x="201" y="283"/>
                    </a:cubicBezTo>
                    <a:cubicBezTo>
                      <a:pt x="82" y="224"/>
                      <a:pt x="33" y="47"/>
                      <a:pt x="0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800520" y="2673720"/>
                <a:ext cx="1041480" cy="627120"/>
              </a:xfrm>
              <a:custGeom>
                <a:avLst/>
                <a:gdLst/>
                <a:ahLst/>
                <a:rect l="l" t="t" r="r" b="b"/>
                <a:pathLst>
                  <a:path w="713" h="356">
                    <a:moveTo>
                      <a:pt x="713" y="356"/>
                    </a:moveTo>
                    <a:cubicBezTo>
                      <a:pt x="516" y="349"/>
                      <a:pt x="320" y="342"/>
                      <a:pt x="201" y="283"/>
                    </a:cubicBezTo>
                    <a:cubicBezTo>
                      <a:pt x="82" y="224"/>
                      <a:pt x="33" y="47"/>
                      <a:pt x="0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07760" y="2847960"/>
                <a:ext cx="579600" cy="264240"/>
              </a:xfrm>
              <a:custGeom>
                <a:avLst/>
                <a:gdLst/>
                <a:ahLst/>
                <a:rect l="l" t="t" r="r" b="b"/>
                <a:pathLst>
                  <a:path w="713" h="356">
                    <a:moveTo>
                      <a:pt x="713" y="356"/>
                    </a:moveTo>
                    <a:cubicBezTo>
                      <a:pt x="516" y="349"/>
                      <a:pt x="320" y="342"/>
                      <a:pt x="201" y="283"/>
                    </a:cubicBezTo>
                    <a:cubicBezTo>
                      <a:pt x="82" y="224"/>
                      <a:pt x="33" y="47"/>
                      <a:pt x="0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5089320" y="193968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1954080" y="3895560"/>
            <a:ext cx="5628600" cy="2046600"/>
            <a:chOff x="1954080" y="3895560"/>
            <a:chExt cx="5628600" cy="2046600"/>
          </a:xfrm>
        </p:grpSpPr>
        <p:grpSp>
          <p:nvGrpSpPr>
            <p:cNvPr id="453" name=""/>
            <p:cNvGrpSpPr/>
            <p:nvPr/>
          </p:nvGrpSpPr>
          <p:grpSpPr>
            <a:xfrm>
              <a:off x="1954080" y="3895560"/>
              <a:ext cx="5628600" cy="2046600"/>
              <a:chOff x="1954080" y="3895560"/>
              <a:chExt cx="5628600" cy="2046600"/>
            </a:xfrm>
          </p:grpSpPr>
          <p:sp>
            <p:nvSpPr>
              <p:cNvPr id="454" name=""/>
              <p:cNvSpPr/>
              <p:nvPr/>
            </p:nvSpPr>
            <p:spPr>
              <a:xfrm>
                <a:off x="1954080" y="3895560"/>
                <a:ext cx="5628600" cy="2046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5" name=""/>
              <p:cNvGrpSpPr/>
              <p:nvPr/>
            </p:nvGrpSpPr>
            <p:grpSpPr>
              <a:xfrm>
                <a:off x="2112840" y="4002480"/>
                <a:ext cx="5272200" cy="1817280"/>
                <a:chOff x="2112840" y="4002480"/>
                <a:chExt cx="5272200" cy="1817280"/>
              </a:xfrm>
            </p:grpSpPr>
            <p:grpSp>
              <p:nvGrpSpPr>
                <p:cNvPr id="456" name=""/>
                <p:cNvGrpSpPr/>
                <p:nvPr/>
              </p:nvGrpSpPr>
              <p:grpSpPr>
                <a:xfrm>
                  <a:off x="2112840" y="4002480"/>
                  <a:ext cx="3670560" cy="1797120"/>
                  <a:chOff x="2112840" y="4002480"/>
                  <a:chExt cx="3670560" cy="1797120"/>
                </a:xfrm>
              </p:grpSpPr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2262960" y="4079520"/>
                    <a:ext cx="2959560" cy="1666440"/>
                    <a:chOff x="2262960" y="4079520"/>
                    <a:chExt cx="2959560" cy="166644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2262960" y="4079520"/>
                      <a:ext cx="2959560" cy="16664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2646000" y="4295160"/>
                      <a:ext cx="2206080" cy="1242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3013920" y="4533120"/>
                      <a:ext cx="1470240" cy="827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3365280" y="4710960"/>
                      <a:ext cx="811800" cy="4572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62" name=""/>
                  <p:cNvSpPr/>
                  <p:nvPr/>
                </p:nvSpPr>
                <p:spPr>
                  <a:xfrm>
                    <a:off x="2188800" y="4002480"/>
                    <a:ext cx="1584360" cy="17971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3695400" y="4058280"/>
                    <a:ext cx="2088000" cy="9907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64" name=""/>
                  <p:cNvGrpSpPr/>
                  <p:nvPr/>
                </p:nvGrpSpPr>
                <p:grpSpPr>
                  <a:xfrm>
                    <a:off x="2138040" y="5168160"/>
                    <a:ext cx="1662480" cy="572760"/>
                    <a:chOff x="2138040" y="5168160"/>
                    <a:chExt cx="1662480" cy="572760"/>
                  </a:xfrm>
                </p:grpSpPr>
                <p:sp>
                  <p:nvSpPr>
                    <p:cNvPr id="465" name=""/>
                    <p:cNvSpPr/>
                    <p:nvPr/>
                  </p:nvSpPr>
                  <p:spPr>
                    <a:xfrm flipH="1">
                      <a:off x="2138040" y="5168160"/>
                      <a:ext cx="16624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 flipH="1">
                      <a:off x="2138040" y="5362200"/>
                      <a:ext cx="16624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 flipH="1">
                      <a:off x="2138040" y="5545440"/>
                      <a:ext cx="16624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 flipH="1">
                      <a:off x="2138040" y="5740920"/>
                      <a:ext cx="16624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9" name=""/>
                  <p:cNvGrpSpPr/>
                  <p:nvPr/>
                </p:nvGrpSpPr>
                <p:grpSpPr>
                  <a:xfrm>
                    <a:off x="2112840" y="4391640"/>
                    <a:ext cx="1662480" cy="572760"/>
                    <a:chOff x="2112840" y="4391640"/>
                    <a:chExt cx="1662480" cy="572760"/>
                  </a:xfrm>
                </p:grpSpPr>
                <p:sp>
                  <p:nvSpPr>
                    <p:cNvPr id="470" name=""/>
                    <p:cNvSpPr/>
                    <p:nvPr/>
                  </p:nvSpPr>
                  <p:spPr>
                    <a:xfrm flipH="1">
                      <a:off x="2112840" y="4391640"/>
                      <a:ext cx="16624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1" name=""/>
                    <p:cNvSpPr/>
                    <p:nvPr/>
                  </p:nvSpPr>
                  <p:spPr>
                    <a:xfrm flipH="1">
                      <a:off x="2112840" y="4585680"/>
                      <a:ext cx="16624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 flipH="1">
                      <a:off x="2112840" y="4768920"/>
                      <a:ext cx="16624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 flipH="1">
                      <a:off x="2112840" y="4964400"/>
                      <a:ext cx="16624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74" name=""/>
                <p:cNvSpPr/>
                <p:nvPr/>
              </p:nvSpPr>
              <p:spPr>
                <a:xfrm flipH="1">
                  <a:off x="4275360" y="4099680"/>
                  <a:ext cx="2959920" cy="166644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H="1">
                  <a:off x="4645080" y="4315680"/>
                  <a:ext cx="2206440" cy="12420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flipH="1">
                  <a:off x="5013000" y="4553640"/>
                  <a:ext cx="1470600" cy="82764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H="1">
                  <a:off x="5319720" y="4731120"/>
                  <a:ext cx="812520" cy="457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H="1">
                  <a:off x="5724720" y="4022640"/>
                  <a:ext cx="1584720" cy="1797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H="1">
                  <a:off x="3714840" y="4078440"/>
                  <a:ext cx="2088000" cy="9910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0" name=""/>
                <p:cNvGrpSpPr/>
                <p:nvPr/>
              </p:nvGrpSpPr>
              <p:grpSpPr>
                <a:xfrm>
                  <a:off x="5697000" y="5188680"/>
                  <a:ext cx="1662480" cy="572760"/>
                  <a:chOff x="5697000" y="5188680"/>
                  <a:chExt cx="1662480" cy="57276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>
                    <a:off x="5697000" y="5188680"/>
                    <a:ext cx="1662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5697000" y="5382720"/>
                    <a:ext cx="1662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5697000" y="5565960"/>
                    <a:ext cx="1662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5697000" y="5761440"/>
                    <a:ext cx="1662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5722560" y="4412160"/>
                  <a:ext cx="1662480" cy="572760"/>
                  <a:chOff x="5722560" y="4412160"/>
                  <a:chExt cx="1662480" cy="57276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>
                    <a:off x="5722560" y="4412160"/>
                    <a:ext cx="1662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5722560" y="4606200"/>
                    <a:ext cx="1662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5722560" y="4789440"/>
                    <a:ext cx="1662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5722560" y="4984920"/>
                    <a:ext cx="1662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90" name=""/>
              <p:cNvSpPr/>
              <p:nvPr/>
            </p:nvSpPr>
            <p:spPr>
              <a:xfrm>
                <a:off x="2766960" y="4003560"/>
                <a:ext cx="0" cy="84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827400" y="4024080"/>
                <a:ext cx="0" cy="84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>
              <a:off x="2123280" y="4203720"/>
              <a:ext cx="525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123280" y="4026240"/>
              <a:ext cx="530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g 229 Questions 14B 1-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F928-4063-4FE0-9F4D-EB82F56A60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73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Interfere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17400" y="1333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en two waves meet at one point they interf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Constructive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interference is where a crest meets a crest, or a trough meets a t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is creates a really big crest or a really deep t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3664080" y="4610160"/>
            <a:ext cx="4367160" cy="1461960"/>
            <a:chOff x="3664080" y="4610160"/>
            <a:chExt cx="4367160" cy="1461960"/>
          </a:xfrm>
        </p:grpSpPr>
        <p:sp>
          <p:nvSpPr>
            <p:cNvPr id="497" name=""/>
            <p:cNvSpPr/>
            <p:nvPr/>
          </p:nvSpPr>
          <p:spPr>
            <a:xfrm>
              <a:off x="3664080" y="4610160"/>
              <a:ext cx="4367160" cy="146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3719880" y="4662720"/>
              <a:ext cx="4253040" cy="1345320"/>
              <a:chOff x="3719880" y="4662720"/>
              <a:chExt cx="4253040" cy="1345320"/>
            </a:xfrm>
          </p:grpSpPr>
          <p:grpSp>
            <p:nvGrpSpPr>
              <p:cNvPr id="499" name=""/>
              <p:cNvGrpSpPr/>
              <p:nvPr/>
            </p:nvGrpSpPr>
            <p:grpSpPr>
              <a:xfrm>
                <a:off x="3719880" y="4951800"/>
                <a:ext cx="1121040" cy="667440"/>
                <a:chOff x="3719880" y="4951800"/>
                <a:chExt cx="1121040" cy="66744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3719880" y="5286960"/>
                  <a:ext cx="112104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719880" y="4951800"/>
                  <a:ext cx="1121040" cy="667440"/>
                </a:xfrm>
                <a:custGeom>
                  <a:avLst/>
                  <a:gdLst/>
                  <a:ahLst/>
                  <a:rect l="l" t="t" r="r" b="b"/>
                  <a:pathLst>
                    <a:path w="4301" h="2861">
                      <a:moveTo>
                        <a:pt x="0" y="1440"/>
                      </a:moveTo>
                      <a:cubicBezTo>
                        <a:pt x="360" y="720"/>
                        <a:pt x="720" y="0"/>
                        <a:pt x="1080" y="0"/>
                      </a:cubicBezTo>
                      <a:cubicBezTo>
                        <a:pt x="1440" y="0"/>
                        <a:pt x="1800" y="963"/>
                        <a:pt x="2160" y="1440"/>
                      </a:cubicBezTo>
                      <a:cubicBezTo>
                        <a:pt x="2520" y="1917"/>
                        <a:pt x="2883" y="2861"/>
                        <a:pt x="3240" y="2861"/>
                      </a:cubicBezTo>
                      <a:cubicBezTo>
                        <a:pt x="3597" y="2861"/>
                        <a:pt x="4127" y="1674"/>
                        <a:pt x="4301" y="144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" name=""/>
              <p:cNvGrpSpPr/>
              <p:nvPr/>
            </p:nvGrpSpPr>
            <p:grpSpPr>
              <a:xfrm>
                <a:off x="5175360" y="5005080"/>
                <a:ext cx="1121040" cy="637200"/>
                <a:chOff x="5175360" y="5005080"/>
                <a:chExt cx="1121040" cy="63720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5175360" y="5325120"/>
                  <a:ext cx="112104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5175360" y="5005080"/>
                  <a:ext cx="1121040" cy="637200"/>
                </a:xfrm>
                <a:custGeom>
                  <a:avLst/>
                  <a:gdLst/>
                  <a:ahLst/>
                  <a:rect l="l" t="t" r="r" b="b"/>
                  <a:pathLst>
                    <a:path w="4301" h="2861">
                      <a:moveTo>
                        <a:pt x="0" y="1440"/>
                      </a:moveTo>
                      <a:cubicBezTo>
                        <a:pt x="360" y="720"/>
                        <a:pt x="720" y="0"/>
                        <a:pt x="1080" y="0"/>
                      </a:cubicBezTo>
                      <a:cubicBezTo>
                        <a:pt x="1440" y="0"/>
                        <a:pt x="1800" y="963"/>
                        <a:pt x="2160" y="1440"/>
                      </a:cubicBezTo>
                      <a:cubicBezTo>
                        <a:pt x="2520" y="1917"/>
                        <a:pt x="2883" y="2861"/>
                        <a:pt x="3240" y="2861"/>
                      </a:cubicBezTo>
                      <a:cubicBezTo>
                        <a:pt x="3597" y="2861"/>
                        <a:pt x="4127" y="1674"/>
                        <a:pt x="4301" y="144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4923360" y="5219280"/>
                <a:ext cx="167400" cy="190080"/>
                <a:chOff x="4923360" y="5219280"/>
                <a:chExt cx="167400" cy="19008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5005080" y="5219280"/>
                  <a:ext cx="0" cy="190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4923360" y="5302800"/>
                  <a:ext cx="16740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6523920" y="5318280"/>
                <a:ext cx="167400" cy="68400"/>
                <a:chOff x="6523920" y="5318280"/>
                <a:chExt cx="167400" cy="6840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6523920" y="5386680"/>
                  <a:ext cx="16740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6523920" y="5318280"/>
                  <a:ext cx="16740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" name=""/>
              <p:cNvGrpSpPr/>
              <p:nvPr/>
            </p:nvGrpSpPr>
            <p:grpSpPr>
              <a:xfrm>
                <a:off x="6852240" y="4662720"/>
                <a:ext cx="1120680" cy="1345320"/>
                <a:chOff x="6852240" y="4662720"/>
                <a:chExt cx="1120680" cy="134532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6852240" y="5338440"/>
                  <a:ext cx="112068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6852240" y="4662720"/>
                  <a:ext cx="1120680" cy="1345320"/>
                </a:xfrm>
                <a:custGeom>
                  <a:avLst/>
                  <a:gdLst/>
                  <a:ahLst/>
                  <a:rect l="l" t="t" r="r" b="b"/>
                  <a:pathLst>
                    <a:path w="4301" h="2861">
                      <a:moveTo>
                        <a:pt x="0" y="1440"/>
                      </a:moveTo>
                      <a:cubicBezTo>
                        <a:pt x="360" y="720"/>
                        <a:pt x="720" y="0"/>
                        <a:pt x="1080" y="0"/>
                      </a:cubicBezTo>
                      <a:cubicBezTo>
                        <a:pt x="1440" y="0"/>
                        <a:pt x="1800" y="963"/>
                        <a:pt x="2160" y="1440"/>
                      </a:cubicBezTo>
                      <a:cubicBezTo>
                        <a:pt x="2520" y="1917"/>
                        <a:pt x="2883" y="2861"/>
                        <a:pt x="3240" y="2861"/>
                      </a:cubicBezTo>
                      <a:cubicBezTo>
                        <a:pt x="3597" y="2861"/>
                        <a:pt x="4127" y="1674"/>
                        <a:pt x="4301" y="144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9781-FF5C-4239-B431-0F84C1FAF7E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Interfere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Destructive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interference is where a crest meets a trough. The result is that they cancel each other out leaving no w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1752480" y="3886200"/>
            <a:ext cx="5410080" cy="1811160"/>
            <a:chOff x="1752480" y="3886200"/>
            <a:chExt cx="5410080" cy="1811160"/>
          </a:xfrm>
        </p:grpSpPr>
        <p:sp>
          <p:nvSpPr>
            <p:cNvPr id="517" name=""/>
            <p:cNvSpPr/>
            <p:nvPr/>
          </p:nvSpPr>
          <p:spPr>
            <a:xfrm>
              <a:off x="1752480" y="3886200"/>
              <a:ext cx="5410080" cy="181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1822320" y="4309920"/>
              <a:ext cx="1388520" cy="826200"/>
              <a:chOff x="1822320" y="4309920"/>
              <a:chExt cx="1388520" cy="826200"/>
            </a:xfrm>
          </p:grpSpPr>
          <p:sp>
            <p:nvSpPr>
              <p:cNvPr id="519" name=""/>
              <p:cNvSpPr/>
              <p:nvPr/>
            </p:nvSpPr>
            <p:spPr>
              <a:xfrm>
                <a:off x="1822320" y="4725000"/>
                <a:ext cx="13885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822320" y="4309920"/>
                <a:ext cx="1388520" cy="826200"/>
              </a:xfrm>
              <a:custGeom>
                <a:avLst/>
                <a:gdLst/>
                <a:ahLst/>
                <a:rect l="l" t="t" r="r" b="b"/>
                <a:pathLst>
                  <a:path w="4301" h="2861">
                    <a:moveTo>
                      <a:pt x="0" y="1440"/>
                    </a:moveTo>
                    <a:cubicBezTo>
                      <a:pt x="360" y="720"/>
                      <a:pt x="720" y="0"/>
                      <a:pt x="1080" y="0"/>
                    </a:cubicBezTo>
                    <a:cubicBezTo>
                      <a:pt x="1440" y="0"/>
                      <a:pt x="1800" y="963"/>
                      <a:pt x="2160" y="1440"/>
                    </a:cubicBezTo>
                    <a:cubicBezTo>
                      <a:pt x="2520" y="1917"/>
                      <a:pt x="2883" y="2861"/>
                      <a:pt x="3240" y="2861"/>
                    </a:cubicBezTo>
                    <a:cubicBezTo>
                      <a:pt x="3597" y="2861"/>
                      <a:pt x="4127" y="1674"/>
                      <a:pt x="4301" y="144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3625560" y="4375440"/>
              <a:ext cx="1388520" cy="789120"/>
              <a:chOff x="3625560" y="4375440"/>
              <a:chExt cx="1388520" cy="789120"/>
            </a:xfrm>
          </p:grpSpPr>
          <p:sp>
            <p:nvSpPr>
              <p:cNvPr id="522" name=""/>
              <p:cNvSpPr/>
              <p:nvPr/>
            </p:nvSpPr>
            <p:spPr>
              <a:xfrm>
                <a:off x="3625560" y="4768200"/>
                <a:ext cx="13885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3625560" y="4375440"/>
                <a:ext cx="1388520" cy="789120"/>
              </a:xfrm>
              <a:custGeom>
                <a:avLst/>
                <a:gdLst/>
                <a:ahLst/>
                <a:rect l="l" t="t" r="r" b="b"/>
                <a:pathLst>
                  <a:path w="4301" h="2861">
                    <a:moveTo>
                      <a:pt x="0" y="1440"/>
                    </a:moveTo>
                    <a:cubicBezTo>
                      <a:pt x="360" y="720"/>
                      <a:pt x="720" y="0"/>
                      <a:pt x="1080" y="0"/>
                    </a:cubicBezTo>
                    <a:cubicBezTo>
                      <a:pt x="1440" y="0"/>
                      <a:pt x="1800" y="963"/>
                      <a:pt x="2160" y="1440"/>
                    </a:cubicBezTo>
                    <a:cubicBezTo>
                      <a:pt x="2520" y="1917"/>
                      <a:pt x="2883" y="2861"/>
                      <a:pt x="3240" y="2861"/>
                    </a:cubicBezTo>
                    <a:cubicBezTo>
                      <a:pt x="3597" y="2861"/>
                      <a:pt x="4127" y="1674"/>
                      <a:pt x="4301" y="144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3312360" y="4641120"/>
              <a:ext cx="207000" cy="235440"/>
              <a:chOff x="3312360" y="4641120"/>
              <a:chExt cx="207000" cy="235440"/>
            </a:xfrm>
          </p:grpSpPr>
          <p:sp>
            <p:nvSpPr>
              <p:cNvPr id="525" name=""/>
              <p:cNvSpPr/>
              <p:nvPr/>
            </p:nvSpPr>
            <p:spPr>
              <a:xfrm>
                <a:off x="3413520" y="4641120"/>
                <a:ext cx="0" cy="235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312360" y="4744440"/>
                <a:ext cx="2070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5295600" y="4763520"/>
              <a:ext cx="207000" cy="84240"/>
              <a:chOff x="5295600" y="4763520"/>
              <a:chExt cx="207000" cy="84240"/>
            </a:xfrm>
          </p:grpSpPr>
          <p:sp>
            <p:nvSpPr>
              <p:cNvPr id="528" name=""/>
              <p:cNvSpPr/>
              <p:nvPr/>
            </p:nvSpPr>
            <p:spPr>
              <a:xfrm>
                <a:off x="5295600" y="4847760"/>
                <a:ext cx="2070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295600" y="4763520"/>
                <a:ext cx="2070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5702040" y="4788720"/>
              <a:ext cx="13885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708160" y="4782600"/>
              <a:ext cx="137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6241-FAE4-4863-90EB-5714C36E268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Superposi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ability of waves to superimpose (add their displacements and energy) as they move through each 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y carry on after as if the other wave was not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g, if several people in a room talk all at once, the different sounds move from place to place with no effect on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3231-5DF7-4076-84A9-76AFFC35A38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Superposi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819000" y="1969920"/>
            <a:ext cx="3899880" cy="3751200"/>
            <a:chOff x="819000" y="1969920"/>
            <a:chExt cx="3899880" cy="3751200"/>
          </a:xfrm>
        </p:grpSpPr>
        <p:grpSp>
          <p:nvGrpSpPr>
            <p:cNvPr id="536" name=""/>
            <p:cNvGrpSpPr/>
            <p:nvPr/>
          </p:nvGrpSpPr>
          <p:grpSpPr>
            <a:xfrm>
              <a:off x="848520" y="2216160"/>
              <a:ext cx="3778560" cy="283320"/>
              <a:chOff x="848520" y="2216160"/>
              <a:chExt cx="3778560" cy="283320"/>
            </a:xfrm>
          </p:grpSpPr>
          <p:sp>
            <p:nvSpPr>
              <p:cNvPr id="537" name=""/>
              <p:cNvSpPr/>
              <p:nvPr/>
            </p:nvSpPr>
            <p:spPr>
              <a:xfrm>
                <a:off x="848520" y="2477520"/>
                <a:ext cx="1066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8" name=""/>
              <p:cNvGrpSpPr/>
              <p:nvPr/>
            </p:nvGrpSpPr>
            <p:grpSpPr>
              <a:xfrm>
                <a:off x="1914840" y="2227320"/>
                <a:ext cx="559800" cy="272160"/>
                <a:chOff x="1914840" y="2227320"/>
                <a:chExt cx="559800" cy="272160"/>
              </a:xfrm>
            </p:grpSpPr>
            <p:sp>
              <p:nvSpPr>
                <p:cNvPr id="539" name=""/>
                <p:cNvSpPr/>
                <p:nvPr/>
              </p:nvSpPr>
              <p:spPr>
                <a:xfrm flipV="1">
                  <a:off x="1914840" y="2227320"/>
                  <a:ext cx="0" cy="2498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1914840" y="2227320"/>
                  <a:ext cx="55512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V="1">
                  <a:off x="2474640" y="2249640"/>
                  <a:ext cx="0" cy="2498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2" name=""/>
              <p:cNvSpPr/>
              <p:nvPr/>
            </p:nvSpPr>
            <p:spPr>
              <a:xfrm>
                <a:off x="2469960" y="2494080"/>
                <a:ext cx="525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>
                <a:off x="3560760" y="2482920"/>
                <a:ext cx="1066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4" name=""/>
              <p:cNvGrpSpPr/>
              <p:nvPr/>
            </p:nvGrpSpPr>
            <p:grpSpPr>
              <a:xfrm>
                <a:off x="3000600" y="2216160"/>
                <a:ext cx="559800" cy="271800"/>
                <a:chOff x="3000600" y="2216160"/>
                <a:chExt cx="559800" cy="271800"/>
              </a:xfrm>
            </p:grpSpPr>
            <p:sp>
              <p:nvSpPr>
                <p:cNvPr id="545" name=""/>
                <p:cNvSpPr/>
                <p:nvPr/>
              </p:nvSpPr>
              <p:spPr>
                <a:xfrm flipV="1">
                  <a:off x="3560400" y="2216160"/>
                  <a:ext cx="0" cy="249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flipH="1">
                  <a:off x="3005280" y="2216520"/>
                  <a:ext cx="555120" cy="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V="1">
                  <a:off x="3000600" y="2238480"/>
                  <a:ext cx="0" cy="249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8" name=""/>
            <p:cNvGrpSpPr/>
            <p:nvPr/>
          </p:nvGrpSpPr>
          <p:grpSpPr>
            <a:xfrm>
              <a:off x="819000" y="3002400"/>
              <a:ext cx="3812040" cy="282240"/>
              <a:chOff x="819000" y="3002400"/>
              <a:chExt cx="3812040" cy="282240"/>
            </a:xfrm>
          </p:grpSpPr>
          <p:grpSp>
            <p:nvGrpSpPr>
              <p:cNvPr id="549" name=""/>
              <p:cNvGrpSpPr/>
              <p:nvPr/>
            </p:nvGrpSpPr>
            <p:grpSpPr>
              <a:xfrm>
                <a:off x="2138400" y="3013200"/>
                <a:ext cx="559800" cy="271440"/>
                <a:chOff x="2138400" y="3013200"/>
                <a:chExt cx="559800" cy="271440"/>
              </a:xfrm>
            </p:grpSpPr>
            <p:sp>
              <p:nvSpPr>
                <p:cNvPr id="550" name=""/>
                <p:cNvSpPr/>
                <p:nvPr/>
              </p:nvSpPr>
              <p:spPr>
                <a:xfrm flipV="1">
                  <a:off x="2138400" y="3013200"/>
                  <a:ext cx="0" cy="2494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2138400" y="3013560"/>
                  <a:ext cx="55512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flipV="1">
                  <a:off x="2698200" y="3035160"/>
                  <a:ext cx="0" cy="2494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" name=""/>
              <p:cNvGrpSpPr/>
              <p:nvPr/>
            </p:nvGrpSpPr>
            <p:grpSpPr>
              <a:xfrm>
                <a:off x="2727360" y="3002400"/>
                <a:ext cx="559800" cy="271440"/>
                <a:chOff x="2727360" y="3002400"/>
                <a:chExt cx="559800" cy="271440"/>
              </a:xfrm>
            </p:grpSpPr>
            <p:sp>
              <p:nvSpPr>
                <p:cNvPr id="554" name=""/>
                <p:cNvSpPr/>
                <p:nvPr/>
              </p:nvSpPr>
              <p:spPr>
                <a:xfrm flipV="1">
                  <a:off x="3287160" y="3002400"/>
                  <a:ext cx="0" cy="24984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 flipH="1">
                  <a:off x="2732040" y="3002400"/>
                  <a:ext cx="555120" cy="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flipV="1">
                  <a:off x="2727360" y="3024360"/>
                  <a:ext cx="0" cy="249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7" name=""/>
              <p:cNvSpPr/>
              <p:nvPr/>
            </p:nvSpPr>
            <p:spPr>
              <a:xfrm flipH="1">
                <a:off x="819000" y="3241080"/>
                <a:ext cx="1314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287520" y="3241080"/>
                <a:ext cx="134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852480" y="3850200"/>
              <a:ext cx="3764880" cy="276480"/>
              <a:chOff x="852480" y="3850200"/>
              <a:chExt cx="3764880" cy="276480"/>
            </a:xfrm>
          </p:grpSpPr>
          <p:grpSp>
            <p:nvGrpSpPr>
              <p:cNvPr id="560" name=""/>
              <p:cNvGrpSpPr/>
              <p:nvPr/>
            </p:nvGrpSpPr>
            <p:grpSpPr>
              <a:xfrm>
                <a:off x="2464560" y="3850200"/>
                <a:ext cx="559800" cy="271080"/>
                <a:chOff x="2464560" y="3850200"/>
                <a:chExt cx="559800" cy="271080"/>
              </a:xfrm>
            </p:grpSpPr>
            <p:sp>
              <p:nvSpPr>
                <p:cNvPr id="561" name=""/>
                <p:cNvSpPr/>
                <p:nvPr/>
              </p:nvSpPr>
              <p:spPr>
                <a:xfrm flipV="1">
                  <a:off x="2464560" y="3850200"/>
                  <a:ext cx="0" cy="2491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2464560" y="3850200"/>
                  <a:ext cx="55512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 flipV="1">
                  <a:off x="3024360" y="3872160"/>
                  <a:ext cx="0" cy="2491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4" name=""/>
              <p:cNvGrpSpPr/>
              <p:nvPr/>
            </p:nvGrpSpPr>
            <p:grpSpPr>
              <a:xfrm>
                <a:off x="2454840" y="3855240"/>
                <a:ext cx="559800" cy="271440"/>
                <a:chOff x="2454840" y="3855240"/>
                <a:chExt cx="559800" cy="271440"/>
              </a:xfrm>
            </p:grpSpPr>
            <p:sp>
              <p:nvSpPr>
                <p:cNvPr id="565" name=""/>
                <p:cNvSpPr/>
                <p:nvPr/>
              </p:nvSpPr>
              <p:spPr>
                <a:xfrm flipV="1">
                  <a:off x="3014640" y="3855240"/>
                  <a:ext cx="0" cy="249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flipH="1">
                  <a:off x="2459520" y="3855600"/>
                  <a:ext cx="555120" cy="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flipV="1">
                  <a:off x="2454840" y="3877560"/>
                  <a:ext cx="0" cy="24912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8" name=""/>
              <p:cNvSpPr/>
              <p:nvPr/>
            </p:nvSpPr>
            <p:spPr>
              <a:xfrm>
                <a:off x="3024720" y="4105080"/>
                <a:ext cx="1592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52480" y="4093920"/>
                <a:ext cx="1592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882360" y="4629600"/>
              <a:ext cx="3836520" cy="276840"/>
              <a:chOff x="882360" y="4629600"/>
              <a:chExt cx="3836520" cy="276840"/>
            </a:xfrm>
          </p:grpSpPr>
          <p:grpSp>
            <p:nvGrpSpPr>
              <p:cNvPr id="571" name=""/>
              <p:cNvGrpSpPr/>
              <p:nvPr/>
            </p:nvGrpSpPr>
            <p:grpSpPr>
              <a:xfrm>
                <a:off x="2206440" y="4635000"/>
                <a:ext cx="559800" cy="271440"/>
                <a:chOff x="2206440" y="4635000"/>
                <a:chExt cx="559800" cy="271440"/>
              </a:xfrm>
            </p:grpSpPr>
            <p:sp>
              <p:nvSpPr>
                <p:cNvPr id="572" name=""/>
                <p:cNvSpPr/>
                <p:nvPr/>
              </p:nvSpPr>
              <p:spPr>
                <a:xfrm flipV="1">
                  <a:off x="2766240" y="4635000"/>
                  <a:ext cx="0" cy="249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 flipH="1">
                  <a:off x="2211120" y="4635360"/>
                  <a:ext cx="555120" cy="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 flipV="1">
                  <a:off x="2206440" y="4657320"/>
                  <a:ext cx="0" cy="24912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2786040" y="4629600"/>
                <a:ext cx="559800" cy="271440"/>
                <a:chOff x="2786040" y="4629600"/>
                <a:chExt cx="559800" cy="271440"/>
              </a:xfrm>
            </p:grpSpPr>
            <p:sp>
              <p:nvSpPr>
                <p:cNvPr id="576" name=""/>
                <p:cNvSpPr/>
                <p:nvPr/>
              </p:nvSpPr>
              <p:spPr>
                <a:xfrm flipV="1">
                  <a:off x="2786040" y="4629600"/>
                  <a:ext cx="0" cy="2494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2786040" y="4629960"/>
                  <a:ext cx="55512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 flipV="1">
                  <a:off x="3345840" y="4651560"/>
                  <a:ext cx="0" cy="2494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9" name=""/>
              <p:cNvSpPr/>
              <p:nvPr/>
            </p:nvSpPr>
            <p:spPr>
              <a:xfrm>
                <a:off x="3375360" y="4885200"/>
                <a:ext cx="134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2360" y="4890240"/>
                <a:ext cx="134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852480" y="5410800"/>
              <a:ext cx="3807720" cy="310320"/>
              <a:chOff x="852480" y="5410800"/>
              <a:chExt cx="3807720" cy="310320"/>
            </a:xfrm>
          </p:grpSpPr>
          <p:grpSp>
            <p:nvGrpSpPr>
              <p:cNvPr id="582" name=""/>
              <p:cNvGrpSpPr/>
              <p:nvPr/>
            </p:nvGrpSpPr>
            <p:grpSpPr>
              <a:xfrm>
                <a:off x="3106800" y="5410800"/>
                <a:ext cx="560160" cy="270720"/>
                <a:chOff x="3106800" y="5410800"/>
                <a:chExt cx="560160" cy="270720"/>
              </a:xfrm>
            </p:grpSpPr>
            <p:sp>
              <p:nvSpPr>
                <p:cNvPr id="583" name=""/>
                <p:cNvSpPr/>
                <p:nvPr/>
              </p:nvSpPr>
              <p:spPr>
                <a:xfrm flipV="1">
                  <a:off x="3106800" y="5410800"/>
                  <a:ext cx="0" cy="2487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106800" y="5411160"/>
                  <a:ext cx="55548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flipV="1">
                  <a:off x="3666960" y="5432760"/>
                  <a:ext cx="0" cy="2487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6" name=""/>
              <p:cNvGrpSpPr/>
              <p:nvPr/>
            </p:nvGrpSpPr>
            <p:grpSpPr>
              <a:xfrm>
                <a:off x="1947960" y="5438520"/>
                <a:ext cx="560160" cy="270360"/>
                <a:chOff x="1947960" y="5438520"/>
                <a:chExt cx="560160" cy="270360"/>
              </a:xfrm>
            </p:grpSpPr>
            <p:sp>
              <p:nvSpPr>
                <p:cNvPr id="587" name=""/>
                <p:cNvSpPr/>
                <p:nvPr/>
              </p:nvSpPr>
              <p:spPr>
                <a:xfrm flipV="1">
                  <a:off x="2508120" y="5438520"/>
                  <a:ext cx="0" cy="24912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 flipH="1">
                  <a:off x="1952280" y="5438520"/>
                  <a:ext cx="555480" cy="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flipV="1">
                  <a:off x="1947960" y="5460120"/>
                  <a:ext cx="0" cy="2487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0" name=""/>
              <p:cNvSpPr/>
              <p:nvPr/>
            </p:nvSpPr>
            <p:spPr>
              <a:xfrm>
                <a:off x="3681720" y="5665320"/>
                <a:ext cx="978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52480" y="5721120"/>
                <a:ext cx="1109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V="1">
                <a:off x="2503080" y="5687640"/>
                <a:ext cx="628200" cy="16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3" name=""/>
            <p:cNvSpPr/>
            <p:nvPr/>
          </p:nvSpPr>
          <p:spPr>
            <a:xfrm>
              <a:off x="1987560" y="1979280"/>
              <a:ext cx="364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182680" y="2831400"/>
              <a:ext cx="364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815920" y="3734280"/>
              <a:ext cx="364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097800" y="4452480"/>
              <a:ext cx="364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424320" y="5272560"/>
              <a:ext cx="36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2887200" y="2837520"/>
              <a:ext cx="36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2338200" y="3739320"/>
              <a:ext cx="36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2124720" y="4475880"/>
              <a:ext cx="364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1837080" y="5294160"/>
              <a:ext cx="364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3255120" y="1969920"/>
              <a:ext cx="364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5003640" y="2041560"/>
            <a:ext cx="3511800" cy="3630960"/>
            <a:chOff x="5003640" y="2041560"/>
            <a:chExt cx="3511800" cy="3630960"/>
          </a:xfrm>
        </p:grpSpPr>
        <p:sp>
          <p:nvSpPr>
            <p:cNvPr id="604" name=""/>
            <p:cNvSpPr/>
            <p:nvPr/>
          </p:nvSpPr>
          <p:spPr>
            <a:xfrm flipH="1">
              <a:off x="7067520" y="2041560"/>
              <a:ext cx="33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5034600" y="2208600"/>
              <a:ext cx="3480120" cy="283680"/>
              <a:chOff x="5034600" y="2208600"/>
              <a:chExt cx="3480120" cy="283680"/>
            </a:xfrm>
          </p:grpSpPr>
          <p:sp>
            <p:nvSpPr>
              <p:cNvPr id="606" name=""/>
              <p:cNvSpPr/>
              <p:nvPr/>
            </p:nvSpPr>
            <p:spPr>
              <a:xfrm>
                <a:off x="5034600" y="2470320"/>
                <a:ext cx="98208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7" name=""/>
              <p:cNvGrpSpPr/>
              <p:nvPr/>
            </p:nvGrpSpPr>
            <p:grpSpPr>
              <a:xfrm>
                <a:off x="6016680" y="2219400"/>
                <a:ext cx="515520" cy="272880"/>
                <a:chOff x="6016680" y="2219400"/>
                <a:chExt cx="515520" cy="272880"/>
              </a:xfrm>
            </p:grpSpPr>
            <p:sp>
              <p:nvSpPr>
                <p:cNvPr id="608" name=""/>
                <p:cNvSpPr/>
                <p:nvPr/>
              </p:nvSpPr>
              <p:spPr>
                <a:xfrm flipV="1">
                  <a:off x="6016680" y="2219400"/>
                  <a:ext cx="0" cy="25056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6016680" y="2219400"/>
                  <a:ext cx="511200" cy="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 flipV="1">
                  <a:off x="6532200" y="2241720"/>
                  <a:ext cx="0" cy="25056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1" name=""/>
              <p:cNvSpPr/>
              <p:nvPr/>
            </p:nvSpPr>
            <p:spPr>
              <a:xfrm>
                <a:off x="6528240" y="2487240"/>
                <a:ext cx="48420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7532640" y="2476080"/>
                <a:ext cx="98208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3" name=""/>
              <p:cNvGrpSpPr/>
              <p:nvPr/>
            </p:nvGrpSpPr>
            <p:grpSpPr>
              <a:xfrm>
                <a:off x="7016760" y="2208600"/>
                <a:ext cx="515880" cy="272160"/>
                <a:chOff x="7016760" y="2208600"/>
                <a:chExt cx="515880" cy="272160"/>
              </a:xfrm>
            </p:grpSpPr>
            <p:sp>
              <p:nvSpPr>
                <p:cNvPr id="614" name=""/>
                <p:cNvSpPr/>
                <p:nvPr/>
              </p:nvSpPr>
              <p:spPr>
                <a:xfrm flipV="1">
                  <a:off x="7532640" y="2208600"/>
                  <a:ext cx="0" cy="25056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 flipH="1">
                  <a:off x="7020720" y="2208600"/>
                  <a:ext cx="511560" cy="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 flipV="1">
                  <a:off x="7016760" y="2230560"/>
                  <a:ext cx="0" cy="25020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17" name=""/>
            <p:cNvGrpSpPr/>
            <p:nvPr/>
          </p:nvGrpSpPr>
          <p:grpSpPr>
            <a:xfrm>
              <a:off x="5003640" y="3015360"/>
              <a:ext cx="3511440" cy="262440"/>
              <a:chOff x="5003640" y="3015360"/>
              <a:chExt cx="3511440" cy="262440"/>
            </a:xfrm>
          </p:grpSpPr>
          <p:sp>
            <p:nvSpPr>
              <p:cNvPr id="618" name=""/>
              <p:cNvSpPr/>
              <p:nvPr/>
            </p:nvSpPr>
            <p:spPr>
              <a:xfrm flipV="1">
                <a:off x="6218640" y="3026160"/>
                <a:ext cx="0" cy="25164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233400" y="3026520"/>
                <a:ext cx="51084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V="1">
                <a:off x="7277760" y="3015360"/>
                <a:ext cx="0" cy="25164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6766560" y="3015720"/>
                <a:ext cx="51084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5003640" y="3255120"/>
                <a:ext cx="121104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277760" y="3255120"/>
                <a:ext cx="123732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5047200" y="3576240"/>
              <a:ext cx="3468240" cy="543600"/>
              <a:chOff x="5047200" y="3576240"/>
              <a:chExt cx="3468240" cy="543600"/>
            </a:xfrm>
          </p:grpSpPr>
          <p:sp>
            <p:nvSpPr>
              <p:cNvPr id="625" name=""/>
              <p:cNvSpPr/>
              <p:nvPr/>
            </p:nvSpPr>
            <p:spPr>
              <a:xfrm flipV="1">
                <a:off x="6531840" y="3848040"/>
                <a:ext cx="0" cy="25020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7048080" y="3869640"/>
                <a:ext cx="0" cy="25020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V="1">
                <a:off x="7039080" y="3594240"/>
                <a:ext cx="0" cy="25020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>
                <a:off x="6527880" y="3576240"/>
                <a:ext cx="51084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V="1">
                <a:off x="6538320" y="3578760"/>
                <a:ext cx="0" cy="25020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048080" y="4105080"/>
                <a:ext cx="146736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047200" y="4092840"/>
                <a:ext cx="146736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5003640" y="4674240"/>
              <a:ext cx="3511440" cy="262080"/>
              <a:chOff x="5003640" y="4674240"/>
              <a:chExt cx="3511440" cy="262080"/>
            </a:xfrm>
          </p:grpSpPr>
          <p:sp>
            <p:nvSpPr>
              <p:cNvPr id="633" name=""/>
              <p:cNvSpPr/>
              <p:nvPr/>
            </p:nvSpPr>
            <p:spPr>
              <a:xfrm flipV="1">
                <a:off x="6218640" y="4685040"/>
                <a:ext cx="0" cy="25128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233400" y="4685040"/>
                <a:ext cx="51084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V="1">
                <a:off x="7277760" y="4674240"/>
                <a:ext cx="0" cy="25128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6766560" y="4674240"/>
                <a:ext cx="51084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>
                <a:off x="5003640" y="4913280"/>
                <a:ext cx="121104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277760" y="4913280"/>
                <a:ext cx="123732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5034600" y="5388840"/>
              <a:ext cx="3480120" cy="283680"/>
              <a:chOff x="5034600" y="5388840"/>
              <a:chExt cx="3480120" cy="283680"/>
            </a:xfrm>
          </p:grpSpPr>
          <p:sp>
            <p:nvSpPr>
              <p:cNvPr id="640" name=""/>
              <p:cNvSpPr/>
              <p:nvPr/>
            </p:nvSpPr>
            <p:spPr>
              <a:xfrm>
                <a:off x="5034600" y="5650560"/>
                <a:ext cx="98208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1" name=""/>
              <p:cNvGrpSpPr/>
              <p:nvPr/>
            </p:nvGrpSpPr>
            <p:grpSpPr>
              <a:xfrm>
                <a:off x="6016680" y="5399640"/>
                <a:ext cx="515520" cy="272880"/>
                <a:chOff x="6016680" y="5399640"/>
                <a:chExt cx="515520" cy="272880"/>
              </a:xfrm>
            </p:grpSpPr>
            <p:sp>
              <p:nvSpPr>
                <p:cNvPr id="642" name=""/>
                <p:cNvSpPr/>
                <p:nvPr/>
              </p:nvSpPr>
              <p:spPr>
                <a:xfrm flipV="1">
                  <a:off x="6016680" y="5399640"/>
                  <a:ext cx="0" cy="25056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016680" y="5399640"/>
                  <a:ext cx="511200" cy="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 flipV="1">
                  <a:off x="6532200" y="5421960"/>
                  <a:ext cx="0" cy="25056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5" name=""/>
              <p:cNvSpPr/>
              <p:nvPr/>
            </p:nvSpPr>
            <p:spPr>
              <a:xfrm>
                <a:off x="6528240" y="5667480"/>
                <a:ext cx="48420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>
                <a:off x="7532640" y="5656320"/>
                <a:ext cx="98208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7" name=""/>
              <p:cNvGrpSpPr/>
              <p:nvPr/>
            </p:nvGrpSpPr>
            <p:grpSpPr>
              <a:xfrm>
                <a:off x="7016760" y="5388840"/>
                <a:ext cx="515880" cy="272160"/>
                <a:chOff x="7016760" y="5388840"/>
                <a:chExt cx="515880" cy="272160"/>
              </a:xfrm>
            </p:grpSpPr>
            <p:sp>
              <p:nvSpPr>
                <p:cNvPr id="648" name=""/>
                <p:cNvSpPr/>
                <p:nvPr/>
              </p:nvSpPr>
              <p:spPr>
                <a:xfrm flipV="1">
                  <a:off x="7532640" y="5388840"/>
                  <a:ext cx="0" cy="25056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flipH="1">
                  <a:off x="7020720" y="5388840"/>
                  <a:ext cx="511560" cy="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flipV="1">
                  <a:off x="7016760" y="5410800"/>
                  <a:ext cx="0" cy="25020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1" name=""/>
            <p:cNvSpPr/>
            <p:nvPr/>
          </p:nvSpPr>
          <p:spPr>
            <a:xfrm flipH="1">
              <a:off x="5978520" y="5203440"/>
              <a:ext cx="33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149880" y="2063160"/>
              <a:ext cx="33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248960" y="5225040"/>
              <a:ext cx="33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0DD6-7AB3-46CC-81E7-BF56AE91ACB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Superposi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819000" y="1979640"/>
            <a:ext cx="3900600" cy="4152960"/>
            <a:chOff x="819000" y="1979640"/>
            <a:chExt cx="3900600" cy="4152960"/>
          </a:xfrm>
        </p:grpSpPr>
        <p:sp>
          <p:nvSpPr>
            <p:cNvPr id="656" name=""/>
            <p:cNvSpPr/>
            <p:nvPr/>
          </p:nvSpPr>
          <p:spPr>
            <a:xfrm>
              <a:off x="849240" y="2478240"/>
              <a:ext cx="1067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7" name=""/>
            <p:cNvGrpSpPr/>
            <p:nvPr/>
          </p:nvGrpSpPr>
          <p:grpSpPr>
            <a:xfrm>
              <a:off x="1916280" y="2226960"/>
              <a:ext cx="558720" cy="272520"/>
              <a:chOff x="1916280" y="2226960"/>
              <a:chExt cx="558720" cy="272520"/>
            </a:xfrm>
          </p:grpSpPr>
          <p:sp>
            <p:nvSpPr>
              <p:cNvPr id="658" name=""/>
              <p:cNvSpPr/>
              <p:nvPr/>
            </p:nvSpPr>
            <p:spPr>
              <a:xfrm flipV="1">
                <a:off x="1916280" y="2226960"/>
                <a:ext cx="0" cy="2502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916280" y="2227320"/>
                <a:ext cx="55404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V="1">
                <a:off x="2475000" y="2249280"/>
                <a:ext cx="0" cy="2502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>
              <a:off x="2470320" y="2494080"/>
              <a:ext cx="527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3560400" y="248292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3021120" y="2502720"/>
              <a:ext cx="558720" cy="272160"/>
              <a:chOff x="3021120" y="2502720"/>
              <a:chExt cx="558720" cy="272160"/>
            </a:xfrm>
          </p:grpSpPr>
          <p:sp>
            <p:nvSpPr>
              <p:cNvPr id="664" name=""/>
              <p:cNvSpPr/>
              <p:nvPr/>
            </p:nvSpPr>
            <p:spPr>
              <a:xfrm>
                <a:off x="3579840" y="2524320"/>
                <a:ext cx="0" cy="2505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>
                <a:off x="3025440" y="2774880"/>
                <a:ext cx="55404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021120" y="2502720"/>
                <a:ext cx="0" cy="2502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2138400" y="3012840"/>
              <a:ext cx="560520" cy="272520"/>
              <a:chOff x="2138400" y="3012840"/>
              <a:chExt cx="560520" cy="272520"/>
            </a:xfrm>
          </p:grpSpPr>
          <p:sp>
            <p:nvSpPr>
              <p:cNvPr id="668" name=""/>
              <p:cNvSpPr/>
              <p:nvPr/>
            </p:nvSpPr>
            <p:spPr>
              <a:xfrm flipV="1">
                <a:off x="2138400" y="3012840"/>
                <a:ext cx="0" cy="2502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138400" y="3013200"/>
                <a:ext cx="55584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V="1">
                <a:off x="2698920" y="3035160"/>
                <a:ext cx="0" cy="2502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2708280" y="3269520"/>
              <a:ext cx="560520" cy="272160"/>
              <a:chOff x="2708280" y="3269520"/>
              <a:chExt cx="560520" cy="272160"/>
            </a:xfrm>
          </p:grpSpPr>
          <p:sp>
            <p:nvSpPr>
              <p:cNvPr id="672" name=""/>
              <p:cNvSpPr/>
              <p:nvPr/>
            </p:nvSpPr>
            <p:spPr>
              <a:xfrm>
                <a:off x="3268800" y="3291120"/>
                <a:ext cx="0" cy="2505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2712960" y="3541680"/>
                <a:ext cx="55584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708280" y="3269520"/>
                <a:ext cx="0" cy="2502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" name=""/>
            <p:cNvSpPr/>
            <p:nvPr/>
          </p:nvSpPr>
          <p:spPr>
            <a:xfrm flipH="1">
              <a:off x="819000" y="3241800"/>
              <a:ext cx="131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287880" y="3241800"/>
              <a:ext cx="1342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7" name=""/>
            <p:cNvGrpSpPr/>
            <p:nvPr/>
          </p:nvGrpSpPr>
          <p:grpSpPr>
            <a:xfrm>
              <a:off x="2465280" y="3849480"/>
              <a:ext cx="560520" cy="272520"/>
              <a:chOff x="2465280" y="3849480"/>
              <a:chExt cx="560520" cy="272520"/>
            </a:xfrm>
          </p:grpSpPr>
          <p:sp>
            <p:nvSpPr>
              <p:cNvPr id="678" name=""/>
              <p:cNvSpPr/>
              <p:nvPr/>
            </p:nvSpPr>
            <p:spPr>
              <a:xfrm flipV="1">
                <a:off x="2465280" y="3849480"/>
                <a:ext cx="0" cy="2502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465280" y="3849840"/>
                <a:ext cx="55584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V="1">
                <a:off x="3025800" y="3871800"/>
                <a:ext cx="0" cy="2502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2455920" y="4123080"/>
              <a:ext cx="558720" cy="271440"/>
              <a:chOff x="2455920" y="4123080"/>
              <a:chExt cx="558720" cy="271440"/>
            </a:xfrm>
          </p:grpSpPr>
          <p:sp>
            <p:nvSpPr>
              <p:cNvPr id="682" name=""/>
              <p:cNvSpPr/>
              <p:nvPr/>
            </p:nvSpPr>
            <p:spPr>
              <a:xfrm>
                <a:off x="3014640" y="4145040"/>
                <a:ext cx="0" cy="2494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2460240" y="4394160"/>
                <a:ext cx="55404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455920" y="4123080"/>
                <a:ext cx="0" cy="2491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5" name=""/>
            <p:cNvSpPr/>
            <p:nvPr/>
          </p:nvSpPr>
          <p:spPr>
            <a:xfrm>
              <a:off x="3025800" y="4105440"/>
              <a:ext cx="159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52480" y="4094280"/>
              <a:ext cx="159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7" name=""/>
            <p:cNvGrpSpPr/>
            <p:nvPr/>
          </p:nvGrpSpPr>
          <p:grpSpPr>
            <a:xfrm>
              <a:off x="2225520" y="4902480"/>
              <a:ext cx="560520" cy="271440"/>
              <a:chOff x="2225520" y="4902480"/>
              <a:chExt cx="560520" cy="271440"/>
            </a:xfrm>
          </p:grpSpPr>
          <p:sp>
            <p:nvSpPr>
              <p:cNvPr id="688" name=""/>
              <p:cNvSpPr/>
              <p:nvPr/>
            </p:nvSpPr>
            <p:spPr>
              <a:xfrm>
                <a:off x="2786040" y="4924440"/>
                <a:ext cx="0" cy="2494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2230200" y="5173560"/>
                <a:ext cx="55584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225520" y="4902480"/>
                <a:ext cx="0" cy="2491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1" name=""/>
            <p:cNvGrpSpPr/>
            <p:nvPr/>
          </p:nvGrpSpPr>
          <p:grpSpPr>
            <a:xfrm>
              <a:off x="2786040" y="4630680"/>
              <a:ext cx="560520" cy="271080"/>
              <a:chOff x="2786040" y="4630680"/>
              <a:chExt cx="560520" cy="271080"/>
            </a:xfrm>
          </p:grpSpPr>
          <p:sp>
            <p:nvSpPr>
              <p:cNvPr id="692" name=""/>
              <p:cNvSpPr/>
              <p:nvPr/>
            </p:nvSpPr>
            <p:spPr>
              <a:xfrm flipV="1">
                <a:off x="2786040" y="4630680"/>
                <a:ext cx="0" cy="2491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786040" y="4630680"/>
                <a:ext cx="55584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3346560" y="4652640"/>
                <a:ext cx="0" cy="2491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>
              <a:off x="3375000" y="488484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82720" y="489096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7" name=""/>
            <p:cNvGrpSpPr/>
            <p:nvPr/>
          </p:nvGrpSpPr>
          <p:grpSpPr>
            <a:xfrm>
              <a:off x="3106800" y="5411880"/>
              <a:ext cx="560160" cy="271080"/>
              <a:chOff x="3106800" y="5411880"/>
              <a:chExt cx="560160" cy="271080"/>
            </a:xfrm>
          </p:grpSpPr>
          <p:sp>
            <p:nvSpPr>
              <p:cNvPr id="698" name=""/>
              <p:cNvSpPr/>
              <p:nvPr/>
            </p:nvSpPr>
            <p:spPr>
              <a:xfrm flipV="1">
                <a:off x="3106800" y="5411880"/>
                <a:ext cx="0" cy="2491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106800" y="5411880"/>
                <a:ext cx="55548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3666960" y="5433840"/>
                <a:ext cx="0" cy="2491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1986120" y="5724360"/>
              <a:ext cx="560160" cy="271800"/>
              <a:chOff x="1986120" y="5724360"/>
              <a:chExt cx="560160" cy="271800"/>
            </a:xfrm>
          </p:grpSpPr>
          <p:sp>
            <p:nvSpPr>
              <p:cNvPr id="702" name=""/>
              <p:cNvSpPr/>
              <p:nvPr/>
            </p:nvSpPr>
            <p:spPr>
              <a:xfrm>
                <a:off x="2546280" y="5746680"/>
                <a:ext cx="0" cy="2494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>
                <a:off x="1990440" y="5995800"/>
                <a:ext cx="55548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986120" y="5724360"/>
                <a:ext cx="0" cy="2494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>
              <a:off x="3681360" y="5665680"/>
              <a:ext cx="979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52480" y="5721480"/>
              <a:ext cx="110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2503440" y="5687640"/>
              <a:ext cx="628560" cy="1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987560" y="1979640"/>
              <a:ext cx="36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792520" y="3098880"/>
              <a:ext cx="36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816280" y="3735360"/>
              <a:ext cx="36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098880" y="4452840"/>
              <a:ext cx="36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424320" y="5272200"/>
              <a:ext cx="36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2296800" y="3429000"/>
              <a:ext cx="366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2147760" y="4540320"/>
              <a:ext cx="40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1856880" y="5295960"/>
              <a:ext cx="36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1665360" y="6132600"/>
              <a:ext cx="36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3141720" y="2351160"/>
              <a:ext cx="36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5003280" y="2063880"/>
            <a:ext cx="3512160" cy="4054320"/>
            <a:chOff x="5003280" y="2063880"/>
            <a:chExt cx="3512160" cy="4054320"/>
          </a:xfrm>
        </p:grpSpPr>
        <p:sp>
          <p:nvSpPr>
            <p:cNvPr id="719" name=""/>
            <p:cNvSpPr/>
            <p:nvPr/>
          </p:nvSpPr>
          <p:spPr>
            <a:xfrm flipH="1">
              <a:off x="7105320" y="2860560"/>
              <a:ext cx="33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035680" y="2471760"/>
              <a:ext cx="98244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6018120" y="2219400"/>
              <a:ext cx="514440" cy="274320"/>
              <a:chOff x="6018120" y="2219400"/>
              <a:chExt cx="514440" cy="274320"/>
            </a:xfrm>
          </p:grpSpPr>
          <p:sp>
            <p:nvSpPr>
              <p:cNvPr id="722" name=""/>
              <p:cNvSpPr/>
              <p:nvPr/>
            </p:nvSpPr>
            <p:spPr>
              <a:xfrm flipV="1">
                <a:off x="6018120" y="2219400"/>
                <a:ext cx="0" cy="25200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018120" y="2219400"/>
                <a:ext cx="51012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6532560" y="2241720"/>
                <a:ext cx="0" cy="25200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5" name=""/>
            <p:cNvSpPr/>
            <p:nvPr/>
          </p:nvSpPr>
          <p:spPr>
            <a:xfrm>
              <a:off x="6529320" y="2487600"/>
              <a:ext cx="48420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7532640" y="2476440"/>
              <a:ext cx="98280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7" name=""/>
            <p:cNvGrpSpPr/>
            <p:nvPr/>
          </p:nvGrpSpPr>
          <p:grpSpPr>
            <a:xfrm>
              <a:off x="6999120" y="2475000"/>
              <a:ext cx="514440" cy="274680"/>
              <a:chOff x="6999120" y="2475000"/>
              <a:chExt cx="514440" cy="274680"/>
            </a:xfrm>
          </p:grpSpPr>
          <p:sp>
            <p:nvSpPr>
              <p:cNvPr id="728" name=""/>
              <p:cNvSpPr/>
              <p:nvPr/>
            </p:nvSpPr>
            <p:spPr>
              <a:xfrm>
                <a:off x="7513560" y="2497320"/>
                <a:ext cx="0" cy="25236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7002720" y="2749320"/>
                <a:ext cx="51012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999120" y="2475000"/>
                <a:ext cx="0" cy="25200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1" name=""/>
            <p:cNvSpPr/>
            <p:nvPr/>
          </p:nvSpPr>
          <p:spPr>
            <a:xfrm flipH="1">
              <a:off x="5003280" y="3255840"/>
              <a:ext cx="121140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257960" y="3257640"/>
              <a:ext cx="123840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362640" y="4086360"/>
              <a:ext cx="2152800" cy="1908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48280" y="4092480"/>
              <a:ext cx="146700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5003280" y="4913280"/>
              <a:ext cx="121140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277040" y="4913280"/>
              <a:ext cx="123840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035680" y="5651640"/>
              <a:ext cx="98244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8" name=""/>
            <p:cNvGrpSpPr/>
            <p:nvPr/>
          </p:nvGrpSpPr>
          <p:grpSpPr>
            <a:xfrm>
              <a:off x="6018120" y="5668200"/>
              <a:ext cx="514440" cy="272520"/>
              <a:chOff x="6018120" y="5668200"/>
              <a:chExt cx="514440" cy="272520"/>
            </a:xfrm>
          </p:grpSpPr>
          <p:sp>
            <p:nvSpPr>
              <p:cNvPr id="739" name=""/>
              <p:cNvSpPr/>
              <p:nvPr/>
            </p:nvSpPr>
            <p:spPr>
              <a:xfrm>
                <a:off x="6018120" y="5690520"/>
                <a:ext cx="0" cy="25020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6018120" y="5940360"/>
                <a:ext cx="51012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532560" y="5668200"/>
                <a:ext cx="0" cy="25020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"/>
            <p:cNvSpPr/>
            <p:nvPr/>
          </p:nvSpPr>
          <p:spPr>
            <a:xfrm>
              <a:off x="6529320" y="5667480"/>
              <a:ext cx="48420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7532640" y="5656320"/>
              <a:ext cx="98280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4" name=""/>
            <p:cNvGrpSpPr/>
            <p:nvPr/>
          </p:nvGrpSpPr>
          <p:grpSpPr>
            <a:xfrm>
              <a:off x="7018200" y="5389560"/>
              <a:ext cx="514440" cy="272160"/>
              <a:chOff x="7018200" y="5389560"/>
              <a:chExt cx="514440" cy="272160"/>
            </a:xfrm>
          </p:grpSpPr>
          <p:sp>
            <p:nvSpPr>
              <p:cNvPr id="745" name=""/>
              <p:cNvSpPr/>
              <p:nvPr/>
            </p:nvSpPr>
            <p:spPr>
              <a:xfrm flipV="1">
                <a:off x="7532640" y="5389560"/>
                <a:ext cx="0" cy="25056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>
                <a:off x="7021800" y="5389560"/>
                <a:ext cx="51012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V="1">
                <a:off x="7018200" y="5411520"/>
                <a:ext cx="0" cy="25020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8" name=""/>
            <p:cNvSpPr/>
            <p:nvPr/>
          </p:nvSpPr>
          <p:spPr>
            <a:xfrm flipH="1">
              <a:off x="5959080" y="6118200"/>
              <a:ext cx="33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49880" y="2063880"/>
              <a:ext cx="33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248600" y="5224320"/>
              <a:ext cx="33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1" name=""/>
            <p:cNvGrpSpPr/>
            <p:nvPr/>
          </p:nvGrpSpPr>
          <p:grpSpPr>
            <a:xfrm>
              <a:off x="6218280" y="3009960"/>
              <a:ext cx="1039680" cy="487440"/>
              <a:chOff x="6218280" y="3009960"/>
              <a:chExt cx="1039680" cy="487440"/>
            </a:xfrm>
          </p:grpSpPr>
          <p:sp>
            <p:nvSpPr>
              <p:cNvPr id="752" name=""/>
              <p:cNvSpPr/>
              <p:nvPr/>
            </p:nvSpPr>
            <p:spPr>
              <a:xfrm flipV="1">
                <a:off x="6218280" y="3026880"/>
                <a:ext cx="0" cy="25236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6234120" y="3027240"/>
                <a:ext cx="51120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257960" y="3244680"/>
                <a:ext cx="0" cy="25272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>
                <a:off x="6748200" y="3497400"/>
                <a:ext cx="50940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724800" y="3009960"/>
                <a:ext cx="0" cy="47628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6224760" y="4654440"/>
              <a:ext cx="1039680" cy="487440"/>
              <a:chOff x="6224760" y="4654440"/>
              <a:chExt cx="1039680" cy="487440"/>
            </a:xfrm>
          </p:grpSpPr>
          <p:sp>
            <p:nvSpPr>
              <p:cNvPr id="758" name=""/>
              <p:cNvSpPr/>
              <p:nvPr/>
            </p:nvSpPr>
            <p:spPr>
              <a:xfrm flipV="1">
                <a:off x="7264440" y="4671360"/>
                <a:ext cx="0" cy="25236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6737400" y="4671720"/>
                <a:ext cx="51120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224760" y="4889160"/>
                <a:ext cx="0" cy="25272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225120" y="5141880"/>
                <a:ext cx="50940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757920" y="4654440"/>
                <a:ext cx="0" cy="47628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541A-F1FC-4195-8C63-F6977B623C2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Standing Wav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se are produced when a wave is reflected back on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original wave and it’s reflection interfere to form a standing w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y have constant positions of no motion (called a node) and maximum motion (called an antin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868320" y="4273560"/>
            <a:ext cx="7117560" cy="2050560"/>
            <a:chOff x="868320" y="4273560"/>
            <a:chExt cx="7117560" cy="2050560"/>
          </a:xfrm>
        </p:grpSpPr>
        <p:sp>
          <p:nvSpPr>
            <p:cNvPr id="766" name=""/>
            <p:cNvSpPr/>
            <p:nvPr/>
          </p:nvSpPr>
          <p:spPr>
            <a:xfrm>
              <a:off x="1075320" y="5599440"/>
              <a:ext cx="3477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060560" y="4864680"/>
              <a:ext cx="3422160" cy="725040"/>
            </a:xfrm>
            <a:custGeom>
              <a:avLst/>
              <a:gdLst/>
              <a:ahLst/>
              <a:rect l="l" t="t" r="r" b="b"/>
              <a:pathLst>
                <a:path w="3130" h="862">
                  <a:moveTo>
                    <a:pt x="0" y="862"/>
                  </a:moveTo>
                  <a:cubicBezTo>
                    <a:pt x="533" y="431"/>
                    <a:pt x="1066" y="0"/>
                    <a:pt x="1588" y="0"/>
                  </a:cubicBezTo>
                  <a:cubicBezTo>
                    <a:pt x="2110" y="0"/>
                    <a:pt x="2873" y="718"/>
                    <a:pt x="3130" y="86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1073160" y="5598720"/>
              <a:ext cx="3422520" cy="724680"/>
            </a:xfrm>
            <a:custGeom>
              <a:avLst/>
              <a:gdLst/>
              <a:ahLst/>
              <a:rect l="l" t="t" r="r" b="b"/>
              <a:pathLst>
                <a:path w="3130" h="862">
                  <a:moveTo>
                    <a:pt x="0" y="862"/>
                  </a:moveTo>
                  <a:cubicBezTo>
                    <a:pt x="533" y="431"/>
                    <a:pt x="1066" y="0"/>
                    <a:pt x="1588" y="0"/>
                  </a:cubicBezTo>
                  <a:cubicBezTo>
                    <a:pt x="2110" y="0"/>
                    <a:pt x="2873" y="718"/>
                    <a:pt x="3130" y="86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811240" y="4874400"/>
              <a:ext cx="0" cy="144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114640" y="5027400"/>
              <a:ext cx="0" cy="110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54200" y="5065200"/>
              <a:ext cx="0" cy="110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868320" y="4938120"/>
              <a:ext cx="57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228920" y="4789440"/>
              <a:ext cx="67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597040" y="4273560"/>
              <a:ext cx="57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24040" y="5599440"/>
              <a:ext cx="3477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421880" y="4874400"/>
              <a:ext cx="3422160" cy="724680"/>
            </a:xfrm>
            <a:custGeom>
              <a:avLst/>
              <a:gdLst/>
              <a:ahLst/>
              <a:rect l="l" t="t" r="r" b="b"/>
              <a:pathLst>
                <a:path w="3130" h="862">
                  <a:moveTo>
                    <a:pt x="0" y="862"/>
                  </a:moveTo>
                  <a:cubicBezTo>
                    <a:pt x="533" y="431"/>
                    <a:pt x="1066" y="0"/>
                    <a:pt x="1588" y="0"/>
                  </a:cubicBezTo>
                  <a:cubicBezTo>
                    <a:pt x="2110" y="0"/>
                    <a:pt x="2873" y="718"/>
                    <a:pt x="3130" y="86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4421880" y="5598720"/>
              <a:ext cx="3422160" cy="724680"/>
            </a:xfrm>
            <a:custGeom>
              <a:avLst/>
              <a:gdLst/>
              <a:ahLst/>
              <a:rect l="l" t="t" r="r" b="b"/>
              <a:pathLst>
                <a:path w="3130" h="862">
                  <a:moveTo>
                    <a:pt x="0" y="862"/>
                  </a:moveTo>
                  <a:cubicBezTo>
                    <a:pt x="533" y="431"/>
                    <a:pt x="1066" y="0"/>
                    <a:pt x="1588" y="0"/>
                  </a:cubicBezTo>
                  <a:cubicBezTo>
                    <a:pt x="2110" y="0"/>
                    <a:pt x="2873" y="718"/>
                    <a:pt x="3130" y="86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159600" y="4874400"/>
              <a:ext cx="0" cy="144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463000" y="5027400"/>
              <a:ext cx="0" cy="110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803280" y="5065200"/>
              <a:ext cx="0" cy="110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590240" y="5011200"/>
              <a:ext cx="3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860800" y="4346640"/>
              <a:ext cx="48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41BF-F947-470E-8CB9-DAB0A4CD3D8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3120" y="164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Transverse Wav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916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particles that make up the wave vibrate at right angles to the direction of wave propag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xample: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066680" y="3718080"/>
            <a:ext cx="7010640" cy="2135160"/>
            <a:chOff x="1066680" y="3718080"/>
            <a:chExt cx="7010640" cy="2135160"/>
          </a:xfrm>
        </p:grpSpPr>
        <p:sp>
          <p:nvSpPr>
            <p:cNvPr id="101" name=""/>
            <p:cNvSpPr/>
            <p:nvPr/>
          </p:nvSpPr>
          <p:spPr>
            <a:xfrm>
              <a:off x="1066680" y="3718080"/>
              <a:ext cx="7010640" cy="213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2140200" y="3922920"/>
              <a:ext cx="5183280" cy="1821960"/>
              <a:chOff x="2140200" y="3922920"/>
              <a:chExt cx="5183280" cy="1821960"/>
            </a:xfrm>
          </p:grpSpPr>
          <p:sp>
            <p:nvSpPr>
              <p:cNvPr id="103" name=""/>
              <p:cNvSpPr/>
              <p:nvPr/>
            </p:nvSpPr>
            <p:spPr>
              <a:xfrm>
                <a:off x="2140200" y="4838040"/>
                <a:ext cx="518328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140200" y="3922920"/>
                <a:ext cx="5183280" cy="1821960"/>
              </a:xfrm>
              <a:custGeom>
                <a:avLst/>
                <a:gdLst/>
                <a:ahLst/>
                <a:rect l="l" t="t" r="r" b="b"/>
                <a:pathLst>
                  <a:path w="4301" h="2861">
                    <a:moveTo>
                      <a:pt x="0" y="1440"/>
                    </a:moveTo>
                    <a:cubicBezTo>
                      <a:pt x="360" y="720"/>
                      <a:pt x="720" y="0"/>
                      <a:pt x="1080" y="0"/>
                    </a:cubicBezTo>
                    <a:cubicBezTo>
                      <a:pt x="1440" y="0"/>
                      <a:pt x="1800" y="963"/>
                      <a:pt x="2160" y="1440"/>
                    </a:cubicBezTo>
                    <a:cubicBezTo>
                      <a:pt x="2520" y="1917"/>
                      <a:pt x="2883" y="2861"/>
                      <a:pt x="3240" y="2861"/>
                    </a:cubicBezTo>
                    <a:cubicBezTo>
                      <a:pt x="3597" y="2861"/>
                      <a:pt x="4127" y="1674"/>
                      <a:pt x="4301" y="144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 flipV="1">
              <a:off x="2550960" y="4090320"/>
              <a:ext cx="0" cy="30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50960" y="4429800"/>
              <a:ext cx="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82560" y="4357440"/>
              <a:ext cx="169920" cy="89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72600" y="4031280"/>
              <a:ext cx="2145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000000"/>
                  </a:solidFill>
                  <a:latin typeface="Times New Roman"/>
                </a:rPr>
                <a:t>Particle Mo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00200" y="4357440"/>
              <a:ext cx="19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78640" y="3850200"/>
              <a:ext cx="3247920" cy="5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000000"/>
                  </a:solidFill>
                  <a:latin typeface="Times New Roman"/>
                </a:rPr>
                <a:t>Direction of Wave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BB56-61B2-4B94-A4E1-229826BB07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2 Source Interfere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Having 2 sources of concentric waves will produce a pattern like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re appear to be lines radiating out from between the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729240" cy="44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39AE-105D-4B42-9455-60E8DF53954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2 Source Interfere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nti-nodal lines are lines of constructive interference. ie the water is chop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Nodal lines are lines of destructive interference. ie the water is fl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4724280" y="1600200"/>
            <a:ext cx="3729240" cy="4478400"/>
            <a:chOff x="4724280" y="1600200"/>
            <a:chExt cx="3729240" cy="4478400"/>
          </a:xfrm>
        </p:grpSpPr>
        <p:pic>
          <p:nvPicPr>
            <p:cNvPr id="789" name="" descr=""/>
            <p:cNvPicPr/>
            <p:nvPr/>
          </p:nvPicPr>
          <p:blipFill>
            <a:blip r:embed="rId1"/>
            <a:stretch/>
          </p:blipFill>
          <p:spPr>
            <a:xfrm>
              <a:off x="4724280" y="1600200"/>
              <a:ext cx="3729240" cy="447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0" name=""/>
            <p:cNvSpPr/>
            <p:nvPr/>
          </p:nvSpPr>
          <p:spPr>
            <a:xfrm flipH="1" flipV="1">
              <a:off x="6476760" y="1828800"/>
              <a:ext cx="75960" cy="3200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 flipV="1">
              <a:off x="5790960" y="1828800"/>
              <a:ext cx="609480" cy="3124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6705720" y="1828800"/>
              <a:ext cx="380880" cy="3124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6781680" y="1905120"/>
              <a:ext cx="609840" cy="30477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6629400" y="1905120"/>
              <a:ext cx="152280" cy="3124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 flipV="1">
              <a:off x="6095520" y="1905120"/>
              <a:ext cx="381240" cy="3124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 flipV="1">
              <a:off x="5486040" y="1980720"/>
              <a:ext cx="762120" cy="2971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E40D-7D54-4254-8520-08F184655E4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2 Source Interfere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n value is called the path 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t tells you how many wavelengths further one wave has traveled compared to the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503280" y="2003400"/>
            <a:ext cx="4057200" cy="3767040"/>
            <a:chOff x="503280" y="2003400"/>
            <a:chExt cx="4057200" cy="3767040"/>
          </a:xfrm>
        </p:grpSpPr>
        <p:graphicFrame>
          <p:nvGraphicFramePr>
            <p:cNvPr id="800" name=""/>
            <p:cNvGraphicFramePr/>
            <p:nvPr/>
          </p:nvGraphicFramePr>
          <p:xfrm>
            <a:off x="582480" y="2155680"/>
            <a:ext cx="2533320" cy="3595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2480" y="2155680"/>
                      <a:ext cx="2533320" cy="359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02" name=""/>
            <p:cNvGrpSpPr/>
            <p:nvPr/>
          </p:nvGrpSpPr>
          <p:grpSpPr>
            <a:xfrm>
              <a:off x="503280" y="2139480"/>
              <a:ext cx="160200" cy="3501720"/>
              <a:chOff x="503280" y="2139480"/>
              <a:chExt cx="160200" cy="3501720"/>
            </a:xfrm>
          </p:grpSpPr>
          <p:sp>
            <p:nvSpPr>
              <p:cNvPr id="803" name=""/>
              <p:cNvSpPr/>
              <p:nvPr/>
            </p:nvSpPr>
            <p:spPr>
              <a:xfrm>
                <a:off x="503280" y="2139480"/>
                <a:ext cx="160200" cy="110124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03280" y="4539960"/>
                <a:ext cx="160200" cy="110124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03280" y="3480120"/>
                <a:ext cx="144720" cy="8542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6" name=""/>
            <p:cNvSpPr/>
            <p:nvPr/>
          </p:nvSpPr>
          <p:spPr>
            <a:xfrm>
              <a:off x="3916080" y="3660480"/>
              <a:ext cx="64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=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916080" y="4703400"/>
              <a:ext cx="64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=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916080" y="2609640"/>
              <a:ext cx="64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=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987640" y="3847680"/>
              <a:ext cx="65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2997000" y="2763360"/>
              <a:ext cx="756720" cy="20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987640" y="4676400"/>
              <a:ext cx="72504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859200" y="2003400"/>
              <a:ext cx="120240" cy="3767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10D8-CA0B-4D1B-A43B-1A91DAB1061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2 Source Interfere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781520" y="14475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f the waves were sound, a person walking from A to B would hear a series of loud and soft noises as they moved across the antinodal and nodal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730080" y="1281240"/>
            <a:ext cx="3925800" cy="5049000"/>
            <a:chOff x="730080" y="1281240"/>
            <a:chExt cx="3925800" cy="5049000"/>
          </a:xfrm>
        </p:grpSpPr>
        <p:grpSp>
          <p:nvGrpSpPr>
            <p:cNvPr id="816" name=""/>
            <p:cNvGrpSpPr/>
            <p:nvPr/>
          </p:nvGrpSpPr>
          <p:grpSpPr>
            <a:xfrm>
              <a:off x="730080" y="1701720"/>
              <a:ext cx="200160" cy="4358880"/>
              <a:chOff x="730080" y="1701720"/>
              <a:chExt cx="200160" cy="4358880"/>
            </a:xfrm>
          </p:grpSpPr>
          <p:sp>
            <p:nvSpPr>
              <p:cNvPr id="817" name=""/>
              <p:cNvSpPr/>
              <p:nvPr/>
            </p:nvSpPr>
            <p:spPr>
              <a:xfrm>
                <a:off x="730080" y="1701720"/>
                <a:ext cx="200160" cy="13708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30080" y="4689720"/>
                <a:ext cx="200160" cy="13708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30080" y="3370680"/>
                <a:ext cx="180720" cy="106344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"/>
            <p:cNvGrpSpPr/>
            <p:nvPr/>
          </p:nvGrpSpPr>
          <p:grpSpPr>
            <a:xfrm>
              <a:off x="963720" y="1281240"/>
              <a:ext cx="3692160" cy="5049000"/>
              <a:chOff x="963720" y="1281240"/>
              <a:chExt cx="3692160" cy="5049000"/>
            </a:xfrm>
          </p:grpSpPr>
          <p:graphicFrame>
            <p:nvGraphicFramePr>
              <p:cNvPr id="821" name=""/>
              <p:cNvGraphicFramePr/>
              <p:nvPr/>
            </p:nvGraphicFramePr>
            <p:xfrm>
              <a:off x="963720" y="1789920"/>
              <a:ext cx="3053160" cy="43326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82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963720" y="1789920"/>
                        <a:ext cx="3053160" cy="4332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23" name=""/>
              <p:cNvSpPr/>
              <p:nvPr/>
            </p:nvSpPr>
            <p:spPr>
              <a:xfrm>
                <a:off x="3879360" y="5961960"/>
                <a:ext cx="77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764160" y="1281240"/>
                <a:ext cx="77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V="1">
                <a:off x="4370760" y="1441080"/>
                <a:ext cx="0" cy="47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8BD7-06C4-4385-B66D-3E8076A1EE2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62040" y="31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709560" y="1193760"/>
            <a:ext cx="7601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Visible Light is part of the </a:t>
            </a:r>
            <a:r>
              <a:rPr b="0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electromagnetic spect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1303200" y="2322360"/>
            <a:ext cx="2625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303200" y="6586560"/>
            <a:ext cx="2625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303200" y="2322360"/>
            <a:ext cx="0" cy="84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802640" y="2322360"/>
            <a:ext cx="0" cy="84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929040" y="6586560"/>
            <a:ext cx="3873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802640" y="5749920"/>
            <a:ext cx="0" cy="836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929040" y="2322360"/>
            <a:ext cx="3873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303200" y="3168720"/>
            <a:ext cx="0" cy="646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802640" y="3168720"/>
            <a:ext cx="0" cy="646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303200" y="3814920"/>
            <a:ext cx="0" cy="644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802640" y="3814920"/>
            <a:ext cx="0" cy="644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303200" y="4459320"/>
            <a:ext cx="0" cy="644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802640" y="4459320"/>
            <a:ext cx="0" cy="644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303200" y="5103720"/>
            <a:ext cx="0" cy="646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802640" y="5103720"/>
            <a:ext cx="0" cy="646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303200" y="5749920"/>
            <a:ext cx="0" cy="836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971640" y="2189160"/>
            <a:ext cx="7145280" cy="4438800"/>
            <a:chOff x="971640" y="2189160"/>
            <a:chExt cx="7145280" cy="4438800"/>
          </a:xfrm>
        </p:grpSpPr>
        <p:sp>
          <p:nvSpPr>
            <p:cNvPr id="845" name=""/>
            <p:cNvSpPr/>
            <p:nvPr/>
          </p:nvSpPr>
          <p:spPr>
            <a:xfrm>
              <a:off x="971640" y="2189160"/>
              <a:ext cx="7145280" cy="4438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929040" y="5749920"/>
              <a:ext cx="387360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800" spc="-1" strike="noStrike">
                  <a:solidFill>
                    <a:srgbClr val="000000"/>
                  </a:solidFill>
                  <a:latin typeface="Arial"/>
                </a:rPr>
                <a:t>Gamma Ray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322280" y="5616720"/>
              <a:ext cx="262584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High Ener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High Frequ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Short Waveleng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929040" y="5103720"/>
              <a:ext cx="387360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800" spc="-1" strike="noStrike">
                  <a:solidFill>
                    <a:srgbClr val="000000"/>
                  </a:solidFill>
                  <a:latin typeface="Arial"/>
                </a:rPr>
                <a:t>X-ray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303200" y="5103720"/>
              <a:ext cx="262584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929040" y="4459320"/>
              <a:ext cx="387360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800" spc="-1" strike="noStrike">
                  <a:solidFill>
                    <a:srgbClr val="000000"/>
                  </a:solidFill>
                  <a:latin typeface="Arial"/>
                </a:rPr>
                <a:t>Ultra Violet (UV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303200" y="4459320"/>
              <a:ext cx="262584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929040" y="3814920"/>
              <a:ext cx="387360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800" spc="-1" strike="noStrike">
                  <a:solidFill>
                    <a:srgbClr val="000000"/>
                  </a:solidFill>
                  <a:latin typeface="Arial"/>
                </a:rPr>
                <a:t>Visible Ligh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303200" y="3814920"/>
              <a:ext cx="262584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929040" y="3168720"/>
              <a:ext cx="387360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800" spc="-1" strike="noStrike">
                  <a:solidFill>
                    <a:srgbClr val="000000"/>
                  </a:solidFill>
                  <a:latin typeface="Arial"/>
                </a:rPr>
                <a:t>Infra-r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303200" y="3168720"/>
              <a:ext cx="262584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929040" y="2322360"/>
              <a:ext cx="3873600" cy="84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800" spc="-1" strike="noStrike">
                  <a:solidFill>
                    <a:srgbClr val="000000"/>
                  </a:solidFill>
                  <a:latin typeface="Arial"/>
                </a:rPr>
                <a:t>Radio Wav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800" spc="-1" strike="noStrike">
                  <a:solidFill>
                    <a:srgbClr val="000000"/>
                  </a:solidFill>
                  <a:latin typeface="Arial"/>
                </a:rPr>
                <a:t>Microwav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303200" y="2322360"/>
              <a:ext cx="2625840" cy="84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Low Ener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Low Frequ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Long Waveleng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843360" y="2425680"/>
              <a:ext cx="0" cy="389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91F1-4F60-4826-AE23-8104FA066B6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400" spc="-1" strike="noStrike">
                <a:solidFill>
                  <a:srgbClr val="000000"/>
                </a:solidFill>
                <a:latin typeface="Arial"/>
              </a:rPr>
              <a:t>Colour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" descr=""/>
          <p:cNvPicPr/>
          <p:nvPr/>
        </p:nvPicPr>
        <p:blipFill>
          <a:blip r:embed="rId1"/>
          <a:stretch/>
        </p:blipFill>
        <p:spPr>
          <a:xfrm>
            <a:off x="2571840" y="2365200"/>
            <a:ext cx="4000320" cy="30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7FA6-A3E4-42CD-8B5E-228892830D0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40" fill="hold"/>
                                        <p:tgtEl>
                                          <p:spTgt spid="8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6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6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73120" y="29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706320" y="134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 general, light travels in straight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Light spreads out in all directions from it’s sou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further from the source the less the illu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1486080" y="4051440"/>
            <a:ext cx="6700320" cy="2152440"/>
            <a:chOff x="1486080" y="4051440"/>
            <a:chExt cx="6700320" cy="2152440"/>
          </a:xfrm>
        </p:grpSpPr>
        <p:sp>
          <p:nvSpPr>
            <p:cNvPr id="864" name=""/>
            <p:cNvSpPr/>
            <p:nvPr/>
          </p:nvSpPr>
          <p:spPr>
            <a:xfrm>
              <a:off x="1487520" y="4051440"/>
              <a:ext cx="6698880" cy="2152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5" name=""/>
            <p:cNvGrpSpPr/>
            <p:nvPr/>
          </p:nvGrpSpPr>
          <p:grpSpPr>
            <a:xfrm>
              <a:off x="1486080" y="4144680"/>
              <a:ext cx="6322680" cy="1941840"/>
              <a:chOff x="1486080" y="4144680"/>
              <a:chExt cx="6322680" cy="1941840"/>
            </a:xfrm>
          </p:grpSpPr>
          <p:grpSp>
            <p:nvGrpSpPr>
              <p:cNvPr id="866" name=""/>
              <p:cNvGrpSpPr/>
              <p:nvPr/>
            </p:nvGrpSpPr>
            <p:grpSpPr>
              <a:xfrm>
                <a:off x="2090880" y="4144680"/>
                <a:ext cx="5717880" cy="1941840"/>
                <a:chOff x="2090880" y="4144680"/>
                <a:chExt cx="5717880" cy="1941840"/>
              </a:xfrm>
            </p:grpSpPr>
            <p:sp>
              <p:nvSpPr>
                <p:cNvPr id="867" name=""/>
                <p:cNvSpPr/>
                <p:nvPr/>
              </p:nvSpPr>
              <p:spPr>
                <a:xfrm>
                  <a:off x="2127960" y="5203440"/>
                  <a:ext cx="3662280" cy="234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 rot="5982000">
                  <a:off x="4452840" y="4595040"/>
                  <a:ext cx="1023120" cy="111276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 rot="5982000">
                  <a:off x="5936760" y="4212360"/>
                  <a:ext cx="1661400" cy="180612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dddddd">
                    <a:alpha val="97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V="1">
                  <a:off x="2090880" y="4192200"/>
                  <a:ext cx="4078080" cy="1033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 flipV="1">
                  <a:off x="2110320" y="4815000"/>
                  <a:ext cx="5698440" cy="398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2110320" y="5215320"/>
                  <a:ext cx="5320080" cy="79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3" name=""/>
              <p:cNvSpPr/>
              <p:nvPr/>
            </p:nvSpPr>
            <p:spPr>
              <a:xfrm>
                <a:off x="1486080" y="5248440"/>
                <a:ext cx="1454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2400" spc="-1" strike="noStrike">
                    <a:solidFill>
                      <a:srgbClr val="000000"/>
                    </a:solidFill>
                    <a:latin typeface="Times New Roman"/>
                  </a:rPr>
                  <a:t>Light Sour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4220-AF7C-47D0-A1A6-FFB7D705B7D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17400" y="1550880"/>
            <a:ext cx="7772400" cy="27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light ray can be bounced off a flat surface. This is called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refle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Law of Reflection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: The angle of incidence = the angle of reflection. (Remember: angles are measured from the 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1625760" y="4629240"/>
            <a:ext cx="6230520" cy="1930320"/>
            <a:chOff x="1625760" y="4629240"/>
            <a:chExt cx="6230520" cy="1930320"/>
          </a:xfrm>
        </p:grpSpPr>
        <p:sp>
          <p:nvSpPr>
            <p:cNvPr id="877" name=""/>
            <p:cNvSpPr/>
            <p:nvPr/>
          </p:nvSpPr>
          <p:spPr>
            <a:xfrm>
              <a:off x="1625760" y="4629240"/>
              <a:ext cx="6230520" cy="1930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2302920" y="6164640"/>
              <a:ext cx="5261040" cy="108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>
              <a:off x="4762080" y="4832280"/>
              <a:ext cx="0" cy="1333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641320" y="4971960"/>
              <a:ext cx="2120760" cy="11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4757400" y="4981320"/>
              <a:ext cx="2120760" cy="118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175640" y="5642280"/>
              <a:ext cx="1172520" cy="194040"/>
            </a:xfrm>
            <a:custGeom>
              <a:avLst/>
              <a:gdLst/>
              <a:ahLst/>
              <a:rect l="l" t="t" r="r" b="b"/>
              <a:pathLst>
                <a:path w="533" h="152">
                  <a:moveTo>
                    <a:pt x="0" y="152"/>
                  </a:moveTo>
                  <a:cubicBezTo>
                    <a:pt x="36" y="111"/>
                    <a:pt x="73" y="70"/>
                    <a:pt x="117" y="45"/>
                  </a:cubicBezTo>
                  <a:cubicBezTo>
                    <a:pt x="161" y="20"/>
                    <a:pt x="210" y="0"/>
                    <a:pt x="267" y="2"/>
                  </a:cubicBezTo>
                  <a:cubicBezTo>
                    <a:pt x="324" y="4"/>
                    <a:pt x="415" y="31"/>
                    <a:pt x="459" y="56"/>
                  </a:cubicBezTo>
                  <a:cubicBezTo>
                    <a:pt x="503" y="81"/>
                    <a:pt x="521" y="136"/>
                    <a:pt x="533" y="15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904920" y="5353200"/>
              <a:ext cx="698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NZ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763880" y="5380200"/>
              <a:ext cx="992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NZ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5F74-391E-46E5-AB3E-92EBDB0325D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Plane Mirr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o form images, light rays have to meet or 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focus.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image is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laterally inverted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by a plane mirror (ie. You wave left hand, image waves r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image is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virtual.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It is formed behind the mirror, in a place where no light actually went. (a real image is formed when light rays meet at a poi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0798-0F48-449D-99CE-BAC938CB386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266760"/>
            <a:ext cx="77724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Plane Mirr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3525840" y="309600"/>
            <a:ext cx="4595040" cy="6145920"/>
            <a:chOff x="3525840" y="309600"/>
            <a:chExt cx="4595040" cy="6145920"/>
          </a:xfrm>
        </p:grpSpPr>
        <p:pic>
          <p:nvPicPr>
            <p:cNvPr id="889" name="" descr=""/>
            <p:cNvPicPr/>
            <p:nvPr/>
          </p:nvPicPr>
          <p:blipFill>
            <a:blip r:embed="rId1"/>
            <a:stretch/>
          </p:blipFill>
          <p:spPr>
            <a:xfrm>
              <a:off x="4064400" y="423000"/>
              <a:ext cx="579600" cy="24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" descr=""/>
            <p:cNvPicPr/>
            <p:nvPr/>
          </p:nvPicPr>
          <p:blipFill>
            <a:blip r:embed="rId2"/>
            <a:stretch/>
          </p:blipFill>
          <p:spPr>
            <a:xfrm rot="16200000">
              <a:off x="3305520" y="4186800"/>
              <a:ext cx="1397160" cy="78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1" name="" descr=""/>
            <p:cNvPicPr/>
            <p:nvPr/>
          </p:nvPicPr>
          <p:blipFill>
            <a:blip r:embed="rId3"/>
            <a:stretch/>
          </p:blipFill>
          <p:spPr>
            <a:xfrm>
              <a:off x="7437600" y="390600"/>
              <a:ext cx="619200" cy="257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5936400" y="309600"/>
              <a:ext cx="0" cy="4695480"/>
            </a:xfrm>
            <a:prstGeom prst="line">
              <a:avLst/>
            </a:prstGeom>
            <a:ln w="60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241160" y="1389240"/>
              <a:ext cx="1666440" cy="132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4235400" y="2743920"/>
              <a:ext cx="1666440" cy="132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5914440" y="1414080"/>
              <a:ext cx="1666440" cy="13251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226040" y="1389240"/>
              <a:ext cx="1680120" cy="178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4426200" y="3200760"/>
              <a:ext cx="1491120" cy="160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5944680" y="1380240"/>
              <a:ext cx="1680120" cy="1782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995440" y="326160"/>
              <a:ext cx="0" cy="46461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525840" y="5264280"/>
              <a:ext cx="225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Light from object reflects into ey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6521040" y="3204000"/>
              <a:ext cx="1599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Eye sees image back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2" name=""/>
          <p:cNvSpPr/>
          <p:nvPr/>
        </p:nvSpPr>
        <p:spPr>
          <a:xfrm>
            <a:off x="1039680" y="6605640"/>
            <a:ext cx="720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imes New Roman"/>
              </a:rPr>
              <a:t>Do Page 187 Questions 12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A8DA-AE04-4087-BC50-F31E296B453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Longitudinal Wav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26640" y="1227240"/>
            <a:ext cx="7340760" cy="40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particles that make up the wave vibrate back and forth in the same direction as the direction of wave propag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xample: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181160" y="3860640"/>
            <a:ext cx="6502320" cy="2168640"/>
            <a:chOff x="1181160" y="3860640"/>
            <a:chExt cx="6502320" cy="2168640"/>
          </a:xfrm>
        </p:grpSpPr>
        <p:sp>
          <p:nvSpPr>
            <p:cNvPr id="114" name=""/>
            <p:cNvSpPr/>
            <p:nvPr/>
          </p:nvSpPr>
          <p:spPr>
            <a:xfrm>
              <a:off x="1181160" y="3860640"/>
              <a:ext cx="6502320" cy="216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1775880" y="4659480"/>
              <a:ext cx="5058360" cy="1165680"/>
              <a:chOff x="1775880" y="4659480"/>
              <a:chExt cx="5058360" cy="1165680"/>
            </a:xfrm>
          </p:grpSpPr>
          <p:grpSp>
            <p:nvGrpSpPr>
              <p:cNvPr id="116" name=""/>
              <p:cNvGrpSpPr/>
              <p:nvPr/>
            </p:nvGrpSpPr>
            <p:grpSpPr>
              <a:xfrm>
                <a:off x="1775880" y="4659480"/>
                <a:ext cx="2214720" cy="1165680"/>
                <a:chOff x="1775880" y="4659480"/>
                <a:chExt cx="2214720" cy="11656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775880" y="4659480"/>
                  <a:ext cx="0" cy="116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396520" y="4659480"/>
                  <a:ext cx="0" cy="116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2867040" y="4659480"/>
                  <a:ext cx="0" cy="116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719800" y="4659480"/>
                  <a:ext cx="0" cy="116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033720" y="4659480"/>
                  <a:ext cx="0" cy="116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347640" y="4659480"/>
                  <a:ext cx="0" cy="116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990600" y="4659480"/>
                  <a:ext cx="0" cy="116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4619520" y="4659480"/>
                <a:ext cx="2214720" cy="1165680"/>
                <a:chOff x="4619520" y="4659480"/>
                <a:chExt cx="2214720" cy="116568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4619520" y="4659480"/>
                  <a:ext cx="0" cy="116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5240160" y="4659480"/>
                  <a:ext cx="0" cy="116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710680" y="4659480"/>
                  <a:ext cx="0" cy="116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5563440" y="4659480"/>
                  <a:ext cx="0" cy="116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5877360" y="4659480"/>
                  <a:ext cx="0" cy="116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191280" y="4659480"/>
                  <a:ext cx="0" cy="116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6834240" y="4659480"/>
                  <a:ext cx="0" cy="116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2" name=""/>
            <p:cNvGrpSpPr/>
            <p:nvPr/>
          </p:nvGrpSpPr>
          <p:grpSpPr>
            <a:xfrm>
              <a:off x="3000960" y="5204520"/>
              <a:ext cx="760680" cy="106560"/>
              <a:chOff x="3000960" y="5204520"/>
              <a:chExt cx="760680" cy="106560"/>
            </a:xfrm>
          </p:grpSpPr>
          <p:sp>
            <p:nvSpPr>
              <p:cNvPr id="133" name=""/>
              <p:cNvSpPr/>
              <p:nvPr/>
            </p:nvSpPr>
            <p:spPr>
              <a:xfrm>
                <a:off x="3298680" y="5204520"/>
                <a:ext cx="139320" cy="106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3000960" y="5243760"/>
                <a:ext cx="31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365640" y="5243040"/>
                <a:ext cx="39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5103000" y="3873240"/>
              <a:ext cx="23994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400" spc="-1" strike="noStrike">
                  <a:solidFill>
                    <a:srgbClr val="000000"/>
                  </a:solidFill>
                  <a:latin typeface="Times New Roman"/>
                </a:rPr>
                <a:t>Direction Of Wave Propag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00920" y="4495320"/>
              <a:ext cx="185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902680" y="4000680"/>
              <a:ext cx="114120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400" spc="-1" strike="noStrike">
                  <a:solidFill>
                    <a:srgbClr val="000000"/>
                  </a:solidFill>
                  <a:latin typeface="Times New Roman"/>
                </a:rPr>
                <a:t>Particle Mo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200F-39E6-4028-8D21-6232974E0B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Curved mirr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centre of the mirror is called the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 p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line at right angles to this is called the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principal axis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focal length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of a mirror is half the radius of curv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radius of curvature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is the radius of the ball that the mirror would have been cut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F706-02DD-4495-9A18-4B0F8F38B19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39720" y="165240"/>
            <a:ext cx="77724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Curved Mirr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73120" y="104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 = centre of curvature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 = radius of curva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 = Focal point or focus   f = focal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a = principal axis            P = p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674640" y="3693960"/>
            <a:ext cx="7698960" cy="2995920"/>
            <a:chOff x="674640" y="3693960"/>
            <a:chExt cx="7698960" cy="2995920"/>
          </a:xfrm>
        </p:grpSpPr>
        <p:sp>
          <p:nvSpPr>
            <p:cNvPr id="908" name=""/>
            <p:cNvSpPr/>
            <p:nvPr/>
          </p:nvSpPr>
          <p:spPr>
            <a:xfrm>
              <a:off x="674640" y="3693960"/>
              <a:ext cx="7698960" cy="2995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352480" y="3849480"/>
              <a:ext cx="2079000" cy="2675520"/>
            </a:xfrm>
            <a:prstGeom prst="flowChartDelay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170680" y="3985200"/>
              <a:ext cx="2100240" cy="2426760"/>
            </a:xfrm>
            <a:prstGeom prst="flowChartDelay">
              <a:avLst/>
            </a:prstGeom>
            <a:solidFill>
              <a:srgbClr val="ffffff"/>
            </a:solidFill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874400" y="3769920"/>
              <a:ext cx="1557720" cy="28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833040" y="5142240"/>
              <a:ext cx="63673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855320" y="5041080"/>
              <a:ext cx="2340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795400" y="5037480"/>
              <a:ext cx="23400" cy="21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505240" y="5243400"/>
              <a:ext cx="58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491360" y="5194440"/>
              <a:ext cx="83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661440" y="5129280"/>
              <a:ext cx="78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799720" y="4837320"/>
              <a:ext cx="442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115080" y="4457880"/>
              <a:ext cx="370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947520" y="4887360"/>
              <a:ext cx="108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p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4897440" y="5560920"/>
              <a:ext cx="2326680" cy="1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666040" y="5548320"/>
              <a:ext cx="81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4112-505C-4D94-8011-C019ADFF079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Concave Mirr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Concave (or converging)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irrors focus light at the focal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700200" y="2724120"/>
            <a:ext cx="7698960" cy="3282480"/>
            <a:chOff x="700200" y="2724120"/>
            <a:chExt cx="7698960" cy="3282480"/>
          </a:xfrm>
        </p:grpSpPr>
        <p:sp>
          <p:nvSpPr>
            <p:cNvPr id="926" name=""/>
            <p:cNvSpPr/>
            <p:nvPr/>
          </p:nvSpPr>
          <p:spPr>
            <a:xfrm>
              <a:off x="700200" y="2724120"/>
              <a:ext cx="7698960" cy="3282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7" name=""/>
            <p:cNvGrpSpPr/>
            <p:nvPr/>
          </p:nvGrpSpPr>
          <p:grpSpPr>
            <a:xfrm>
              <a:off x="4469760" y="3198960"/>
              <a:ext cx="2463480" cy="2391120"/>
              <a:chOff x="4469760" y="3198960"/>
              <a:chExt cx="2463480" cy="2391120"/>
            </a:xfrm>
          </p:grpSpPr>
          <p:sp>
            <p:nvSpPr>
              <p:cNvPr id="928" name=""/>
              <p:cNvSpPr/>
              <p:nvPr/>
            </p:nvSpPr>
            <p:spPr>
              <a:xfrm>
                <a:off x="4854960" y="3275280"/>
                <a:ext cx="2078280" cy="2239560"/>
              </a:xfrm>
              <a:prstGeom prst="flowChartDelay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673160" y="3389400"/>
                <a:ext cx="2099160" cy="2031840"/>
              </a:xfrm>
              <a:prstGeom prst="flowChartDelay">
                <a:avLst/>
              </a:prstGeom>
              <a:solidFill>
                <a:srgbClr val="ffffff"/>
              </a:solidFill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4469760" y="3198960"/>
                <a:ext cx="1197720" cy="239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1" name=""/>
            <p:cNvSpPr/>
            <p:nvPr/>
          </p:nvSpPr>
          <p:spPr>
            <a:xfrm flipH="1">
              <a:off x="1015200" y="4394880"/>
              <a:ext cx="5689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600520" y="4204440"/>
              <a:ext cx="23400" cy="32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197360" y="3957120"/>
              <a:ext cx="541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218600" y="3577680"/>
              <a:ext cx="505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241640" y="4830480"/>
              <a:ext cx="537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194840" y="5209560"/>
              <a:ext cx="513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4584240" y="3577680"/>
              <a:ext cx="1693440" cy="193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4018680" y="3939120"/>
              <a:ext cx="2597400" cy="111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 flipV="1">
              <a:off x="4086720" y="3710880"/>
              <a:ext cx="2550960" cy="111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 flipV="1">
              <a:off x="4560840" y="3141720"/>
              <a:ext cx="1737720" cy="206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4A54-1F6D-4E69-BE6B-458146F0C43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7542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Convex Mirrors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723960" y="1085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nvex mirrors have a focal point behind the mir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nvex (or diverging) mirrors spread the light rays apart so that they appear to have come from the focal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2023920" y="3657600"/>
            <a:ext cx="5088240" cy="2908440"/>
            <a:chOff x="2023920" y="3657600"/>
            <a:chExt cx="5088240" cy="2908440"/>
          </a:xfrm>
        </p:grpSpPr>
        <p:sp>
          <p:nvSpPr>
            <p:cNvPr id="944" name=""/>
            <p:cNvSpPr/>
            <p:nvPr/>
          </p:nvSpPr>
          <p:spPr>
            <a:xfrm>
              <a:off x="2023920" y="3657600"/>
              <a:ext cx="5088240" cy="290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5" name=""/>
            <p:cNvGrpSpPr/>
            <p:nvPr/>
          </p:nvGrpSpPr>
          <p:grpSpPr>
            <a:xfrm>
              <a:off x="2074320" y="3809520"/>
              <a:ext cx="4885920" cy="2527560"/>
              <a:chOff x="2074320" y="3809520"/>
              <a:chExt cx="4885920" cy="2527560"/>
            </a:xfrm>
          </p:grpSpPr>
          <p:grpSp>
            <p:nvGrpSpPr>
              <p:cNvPr id="946" name=""/>
              <p:cNvGrpSpPr/>
              <p:nvPr/>
            </p:nvGrpSpPr>
            <p:grpSpPr>
              <a:xfrm>
                <a:off x="4669200" y="4363200"/>
                <a:ext cx="1615320" cy="1600200"/>
                <a:chOff x="4669200" y="4363200"/>
                <a:chExt cx="1615320" cy="1600200"/>
              </a:xfrm>
            </p:grpSpPr>
            <p:sp>
              <p:nvSpPr>
                <p:cNvPr id="947" name=""/>
                <p:cNvSpPr/>
                <p:nvPr/>
              </p:nvSpPr>
              <p:spPr>
                <a:xfrm flipH="1">
                  <a:off x="4668840" y="4478760"/>
                  <a:ext cx="1566360" cy="1359720"/>
                </a:xfrm>
                <a:prstGeom prst="flowChartDelay">
                  <a:avLst/>
                </a:prstGeom>
                <a:solidFill>
                  <a:srgbClr val="ffffff"/>
                </a:solidFill>
                <a:ln w="540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 flipH="1">
                  <a:off x="4767120" y="4581000"/>
                  <a:ext cx="1348560" cy="1181160"/>
                </a:xfrm>
                <a:prstGeom prst="flowChartDelay">
                  <a:avLst/>
                </a:pr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 flipH="1">
                  <a:off x="5390280" y="4363200"/>
                  <a:ext cx="893880" cy="1600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0" name=""/>
              <p:cNvSpPr/>
              <p:nvPr/>
            </p:nvSpPr>
            <p:spPr>
              <a:xfrm>
                <a:off x="2074320" y="5155920"/>
                <a:ext cx="4885920" cy="1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309400" y="4876200"/>
                <a:ext cx="2408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2292120" y="4584600"/>
                <a:ext cx="2696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360520" y="5409720"/>
                <a:ext cx="2324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2327040" y="5714280"/>
                <a:ext cx="2644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151320" y="5041440"/>
                <a:ext cx="1692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971240" y="4584600"/>
                <a:ext cx="1179720" cy="571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718520" y="4876200"/>
                <a:ext cx="1432800" cy="27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flipV="1">
                <a:off x="4718520" y="5155920"/>
                <a:ext cx="1432800" cy="25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flipV="1">
                <a:off x="5006160" y="5155920"/>
                <a:ext cx="1145160" cy="55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flipH="1" flipV="1">
                <a:off x="3403800" y="3809520"/>
                <a:ext cx="1601640" cy="786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H="1" flipV="1">
                <a:off x="2612520" y="4418640"/>
                <a:ext cx="2140200" cy="44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H="1">
                <a:off x="2494440" y="5397840"/>
                <a:ext cx="2258640" cy="41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H="1">
                <a:off x="3641400" y="5676480"/>
                <a:ext cx="1397520" cy="66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949F-DC1C-4685-BB81-8B7C4D3D5D0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Ray Diagra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85440" y="1663560"/>
            <a:ext cx="717084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Used to find the size, nature and position of im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nature of an image formed by a mirror or lens can be described according to 3 characteristics: Is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) upright or inve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) magnified, diminished or the same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) Real or vir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3A75-2492-4BD4-85C2-17C61715E21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Ray Diagra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85800" y="1687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ule One: An incident ray parallel to the pa is reflected back through the focal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2438280" y="2913120"/>
            <a:ext cx="5005440" cy="3601800"/>
            <a:chOff x="2438280" y="2913120"/>
            <a:chExt cx="5005440" cy="3601800"/>
          </a:xfrm>
        </p:grpSpPr>
        <p:grpSp>
          <p:nvGrpSpPr>
            <p:cNvPr id="969" name=""/>
            <p:cNvGrpSpPr/>
            <p:nvPr/>
          </p:nvGrpSpPr>
          <p:grpSpPr>
            <a:xfrm>
              <a:off x="2438280" y="2913120"/>
              <a:ext cx="5005440" cy="3601800"/>
              <a:chOff x="2438280" y="2913120"/>
              <a:chExt cx="5005440" cy="3601800"/>
            </a:xfrm>
          </p:grpSpPr>
          <p:sp>
            <p:nvSpPr>
              <p:cNvPr id="970" name=""/>
              <p:cNvSpPr/>
              <p:nvPr/>
            </p:nvSpPr>
            <p:spPr>
              <a:xfrm>
                <a:off x="2438280" y="2913120"/>
                <a:ext cx="5005440" cy="3601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1" name=""/>
              <p:cNvGrpSpPr/>
              <p:nvPr/>
            </p:nvGrpSpPr>
            <p:grpSpPr>
              <a:xfrm>
                <a:off x="4889160" y="3434400"/>
                <a:ext cx="1601640" cy="2622600"/>
                <a:chOff x="4889160" y="3434400"/>
                <a:chExt cx="1601640" cy="2622600"/>
              </a:xfrm>
            </p:grpSpPr>
            <p:sp>
              <p:nvSpPr>
                <p:cNvPr id="972" name=""/>
                <p:cNvSpPr/>
                <p:nvPr/>
              </p:nvSpPr>
              <p:spPr>
                <a:xfrm>
                  <a:off x="5139720" y="3518280"/>
                  <a:ext cx="1351080" cy="2456280"/>
                </a:xfrm>
                <a:prstGeom prst="flowChartDelay">
                  <a:avLst/>
                </a:pr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5021280" y="3643200"/>
                  <a:ext cx="1365120" cy="2228400"/>
                </a:xfrm>
                <a:prstGeom prst="flowChartDelay">
                  <a:avLst/>
                </a:prstGeom>
                <a:solidFill>
                  <a:srgbClr val="ffffff"/>
                </a:solidFill>
                <a:ln w="540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4889160" y="3434400"/>
                  <a:ext cx="778680" cy="2622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5" name=""/>
              <p:cNvSpPr/>
              <p:nvPr/>
            </p:nvSpPr>
            <p:spPr>
              <a:xfrm flipH="1">
                <a:off x="2642760" y="4746240"/>
                <a:ext cx="3699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286960" y="4570200"/>
                <a:ext cx="14760" cy="35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2775240" y="3850560"/>
                <a:ext cx="328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flipH="1">
                <a:off x="4493880" y="3850560"/>
                <a:ext cx="1569960" cy="1855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79" name="" descr=""/>
            <p:cNvPicPr/>
            <p:nvPr/>
          </p:nvPicPr>
          <p:blipFill>
            <a:blip r:embed="rId1"/>
            <a:stretch/>
          </p:blipFill>
          <p:spPr>
            <a:xfrm>
              <a:off x="2659680" y="3287520"/>
              <a:ext cx="305280" cy="147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0BAA-6C53-45F7-BCE2-F536B9EDFEE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Ray Diagra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743040" y="1619280"/>
            <a:ext cx="748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ule Two: An incident ray headed towards the pole reflects back at an equal 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1477800" y="3411360"/>
            <a:ext cx="5034240" cy="2901960"/>
            <a:chOff x="1477800" y="3411360"/>
            <a:chExt cx="5034240" cy="2901960"/>
          </a:xfrm>
        </p:grpSpPr>
        <p:grpSp>
          <p:nvGrpSpPr>
            <p:cNvPr id="983" name=""/>
            <p:cNvGrpSpPr/>
            <p:nvPr/>
          </p:nvGrpSpPr>
          <p:grpSpPr>
            <a:xfrm>
              <a:off x="1477800" y="3411360"/>
              <a:ext cx="5034240" cy="2901960"/>
              <a:chOff x="1477800" y="3411360"/>
              <a:chExt cx="5034240" cy="2901960"/>
            </a:xfrm>
          </p:grpSpPr>
          <p:sp>
            <p:nvSpPr>
              <p:cNvPr id="984" name=""/>
              <p:cNvSpPr/>
              <p:nvPr/>
            </p:nvSpPr>
            <p:spPr>
              <a:xfrm>
                <a:off x="1477800" y="3411360"/>
                <a:ext cx="5034240" cy="2901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5" name=""/>
              <p:cNvGrpSpPr/>
              <p:nvPr/>
            </p:nvGrpSpPr>
            <p:grpSpPr>
              <a:xfrm>
                <a:off x="3927240" y="3818160"/>
                <a:ext cx="1610280" cy="2112840"/>
                <a:chOff x="3927240" y="3818160"/>
                <a:chExt cx="1610280" cy="2112840"/>
              </a:xfrm>
            </p:grpSpPr>
            <p:sp>
              <p:nvSpPr>
                <p:cNvPr id="986" name=""/>
                <p:cNvSpPr/>
                <p:nvPr/>
              </p:nvSpPr>
              <p:spPr>
                <a:xfrm>
                  <a:off x="4178880" y="3885840"/>
                  <a:ext cx="1358640" cy="1978560"/>
                </a:xfrm>
                <a:prstGeom prst="flowChartDelay">
                  <a:avLst/>
                </a:pr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4060080" y="3986280"/>
                  <a:ext cx="1372320" cy="1794960"/>
                </a:xfrm>
                <a:prstGeom prst="flowChartDelay">
                  <a:avLst/>
                </a:prstGeom>
                <a:solidFill>
                  <a:srgbClr val="ffffff"/>
                </a:solidFill>
                <a:ln w="540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3927240" y="3818160"/>
                  <a:ext cx="783000" cy="2112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9" name=""/>
              <p:cNvSpPr/>
              <p:nvPr/>
            </p:nvSpPr>
            <p:spPr>
              <a:xfrm flipH="1">
                <a:off x="1684080" y="4888440"/>
                <a:ext cx="3719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4343040" y="4745880"/>
                <a:ext cx="15480" cy="28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816200" y="4167000"/>
                <a:ext cx="3627360" cy="73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H="1">
                <a:off x="2073240" y="4898880"/>
                <a:ext cx="3368520" cy="71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93" name="" descr=""/>
            <p:cNvPicPr/>
            <p:nvPr/>
          </p:nvPicPr>
          <p:blipFill>
            <a:blip r:embed="rId1"/>
            <a:stretch/>
          </p:blipFill>
          <p:spPr>
            <a:xfrm>
              <a:off x="1684800" y="3691440"/>
              <a:ext cx="383760" cy="120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623D-7CAF-43E6-87F0-4245C928C0B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Ray Diagra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708120" y="1663560"/>
            <a:ext cx="751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ule Three: An incident ray that passes through the focal point on the way to the mirror is reflected back parallel to the p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1994040" y="3745080"/>
            <a:ext cx="4898880" cy="2786040"/>
            <a:chOff x="1994040" y="3745080"/>
            <a:chExt cx="4898880" cy="2786040"/>
          </a:xfrm>
        </p:grpSpPr>
        <p:grpSp>
          <p:nvGrpSpPr>
            <p:cNvPr id="997" name=""/>
            <p:cNvGrpSpPr/>
            <p:nvPr/>
          </p:nvGrpSpPr>
          <p:grpSpPr>
            <a:xfrm>
              <a:off x="1994040" y="3745080"/>
              <a:ext cx="4898880" cy="2786040"/>
              <a:chOff x="1994040" y="3745080"/>
              <a:chExt cx="4898880" cy="2786040"/>
            </a:xfrm>
          </p:grpSpPr>
          <p:sp>
            <p:nvSpPr>
              <p:cNvPr id="998" name=""/>
              <p:cNvSpPr/>
              <p:nvPr/>
            </p:nvSpPr>
            <p:spPr>
              <a:xfrm>
                <a:off x="1994040" y="3745080"/>
                <a:ext cx="4898880" cy="2786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9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568960" y="4031640"/>
                <a:ext cx="367560" cy="1136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00" name=""/>
            <p:cNvGrpSpPr/>
            <p:nvPr/>
          </p:nvGrpSpPr>
          <p:grpSpPr>
            <a:xfrm>
              <a:off x="4770000" y="4149720"/>
              <a:ext cx="1567080" cy="2028240"/>
              <a:chOff x="4770000" y="4149720"/>
              <a:chExt cx="1567080" cy="2028240"/>
            </a:xfrm>
          </p:grpSpPr>
          <p:sp>
            <p:nvSpPr>
              <p:cNvPr id="1001" name=""/>
              <p:cNvSpPr/>
              <p:nvPr/>
            </p:nvSpPr>
            <p:spPr>
              <a:xfrm>
                <a:off x="5015160" y="4214520"/>
                <a:ext cx="1321920" cy="1899360"/>
              </a:xfrm>
              <a:prstGeom prst="flowChartDelay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4899240" y="4311000"/>
                <a:ext cx="1335240" cy="1723320"/>
              </a:xfrm>
              <a:prstGeom prst="flowChartDelay">
                <a:avLst/>
              </a:prstGeom>
              <a:solidFill>
                <a:srgbClr val="ffffff"/>
              </a:solidFill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4770000" y="4149720"/>
                <a:ext cx="761760" cy="202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4" name=""/>
            <p:cNvSpPr/>
            <p:nvPr/>
          </p:nvSpPr>
          <p:spPr>
            <a:xfrm flipH="1">
              <a:off x="2587320" y="5177520"/>
              <a:ext cx="36856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174280" y="5040000"/>
              <a:ext cx="15120" cy="27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715840" y="4484520"/>
              <a:ext cx="3497760" cy="101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 flipV="1">
              <a:off x="3243240" y="5485320"/>
              <a:ext cx="290268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F1CB-9912-4429-BA26-D9AA3168110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39720" y="17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Ray Diagra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793800" y="10029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ll three combined allow you to find the im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 this example the image is inverted, diminished and re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0" name=""/>
          <p:cNvGrpSpPr/>
          <p:nvPr/>
        </p:nvGrpSpPr>
        <p:grpSpPr>
          <a:xfrm>
            <a:off x="1487520" y="3076560"/>
            <a:ext cx="6025680" cy="3335400"/>
            <a:chOff x="1487520" y="3076560"/>
            <a:chExt cx="6025680" cy="3335400"/>
          </a:xfrm>
        </p:grpSpPr>
        <p:sp>
          <p:nvSpPr>
            <p:cNvPr id="1011" name=""/>
            <p:cNvSpPr/>
            <p:nvPr/>
          </p:nvSpPr>
          <p:spPr>
            <a:xfrm>
              <a:off x="1487520" y="3076560"/>
              <a:ext cx="6025680" cy="333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2" name="" descr=""/>
            <p:cNvPicPr/>
            <p:nvPr/>
          </p:nvPicPr>
          <p:blipFill>
            <a:blip r:embed="rId1"/>
            <a:stretch/>
          </p:blipFill>
          <p:spPr>
            <a:xfrm>
              <a:off x="2194920" y="3419280"/>
              <a:ext cx="452520" cy="136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3" name=""/>
            <p:cNvGrpSpPr/>
            <p:nvPr/>
          </p:nvGrpSpPr>
          <p:grpSpPr>
            <a:xfrm>
              <a:off x="4902120" y="3560400"/>
              <a:ext cx="1927440" cy="2427840"/>
              <a:chOff x="4902120" y="3560400"/>
              <a:chExt cx="1927440" cy="2427840"/>
            </a:xfrm>
          </p:grpSpPr>
          <p:sp>
            <p:nvSpPr>
              <p:cNvPr id="1014" name=""/>
              <p:cNvSpPr/>
              <p:nvPr/>
            </p:nvSpPr>
            <p:spPr>
              <a:xfrm>
                <a:off x="5203440" y="3638160"/>
                <a:ext cx="1626120" cy="2273760"/>
              </a:xfrm>
              <a:prstGeom prst="flowChartDelay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061240" y="3753720"/>
                <a:ext cx="1642680" cy="2062800"/>
              </a:xfrm>
              <a:prstGeom prst="flowChartDelay">
                <a:avLst/>
              </a:prstGeom>
              <a:solidFill>
                <a:srgbClr val="ffffff"/>
              </a:solidFill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4902120" y="3560400"/>
                <a:ext cx="937080" cy="242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7" name=""/>
            <p:cNvSpPr/>
            <p:nvPr/>
          </p:nvSpPr>
          <p:spPr>
            <a:xfrm flipH="1">
              <a:off x="2217600" y="4791240"/>
              <a:ext cx="45338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699440" y="4641840"/>
              <a:ext cx="18720" cy="32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374920" y="3961440"/>
              <a:ext cx="4101840" cy="148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 flipV="1">
              <a:off x="2345040" y="5438520"/>
              <a:ext cx="4071600" cy="1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386440" y="3953160"/>
              <a:ext cx="394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2766960" y="3952080"/>
              <a:ext cx="3562920" cy="185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386440" y="3953160"/>
              <a:ext cx="4264920" cy="83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>
              <a:off x="2525400" y="4791240"/>
              <a:ext cx="4126320" cy="82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5" name="" descr=""/>
            <p:cNvPicPr/>
            <p:nvPr/>
          </p:nvPicPr>
          <p:blipFill>
            <a:blip r:embed="rId2"/>
            <a:stretch/>
          </p:blipFill>
          <p:spPr>
            <a:xfrm flipH="1" rot="10800000">
              <a:off x="3372120" y="4797720"/>
              <a:ext cx="358200" cy="107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AD39-868D-46A3-9795-EE608CB7732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28560" y="17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Ray Diagra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85800" y="1274760"/>
            <a:ext cx="777240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same can be applied to convex mirrors with a few small chang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ll convex mirror images are 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virt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8" name=""/>
          <p:cNvGrpSpPr/>
          <p:nvPr/>
        </p:nvGrpSpPr>
        <p:grpSpPr>
          <a:xfrm>
            <a:off x="1353960" y="2952720"/>
            <a:ext cx="5751360" cy="3286080"/>
            <a:chOff x="1353960" y="2952720"/>
            <a:chExt cx="5751360" cy="3286080"/>
          </a:xfrm>
        </p:grpSpPr>
        <p:sp>
          <p:nvSpPr>
            <p:cNvPr id="1029" name=""/>
            <p:cNvSpPr/>
            <p:nvPr/>
          </p:nvSpPr>
          <p:spPr>
            <a:xfrm>
              <a:off x="1353960" y="2952720"/>
              <a:ext cx="5751360" cy="328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0" name="" descr=""/>
            <p:cNvPicPr/>
            <p:nvPr/>
          </p:nvPicPr>
          <p:blipFill>
            <a:blip r:embed="rId1"/>
            <a:stretch/>
          </p:blipFill>
          <p:spPr>
            <a:xfrm>
              <a:off x="2066040" y="3296880"/>
              <a:ext cx="431640" cy="1526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1" name=""/>
            <p:cNvGrpSpPr/>
            <p:nvPr/>
          </p:nvGrpSpPr>
          <p:grpSpPr>
            <a:xfrm>
              <a:off x="4753440" y="3510720"/>
              <a:ext cx="1683360" cy="2723760"/>
              <a:chOff x="4753440" y="3510720"/>
              <a:chExt cx="1683360" cy="2723760"/>
            </a:xfrm>
          </p:grpSpPr>
          <p:sp>
            <p:nvSpPr>
              <p:cNvPr id="1032" name=""/>
              <p:cNvSpPr/>
              <p:nvPr/>
            </p:nvSpPr>
            <p:spPr>
              <a:xfrm flipH="1">
                <a:off x="4753080" y="3727080"/>
                <a:ext cx="1567800" cy="2314080"/>
              </a:xfrm>
              <a:prstGeom prst="flowChartDelay">
                <a:avLst/>
              </a:prstGeom>
              <a:solidFill>
                <a:srgbClr val="ffffff"/>
              </a:solidFill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H="1">
                <a:off x="4861800" y="3781080"/>
                <a:ext cx="1552680" cy="2214360"/>
              </a:xfrm>
              <a:prstGeom prst="flowChartDelay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H="1">
                <a:off x="5542560" y="3510720"/>
                <a:ext cx="894240" cy="2723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5" name=""/>
            <p:cNvSpPr/>
            <p:nvPr/>
          </p:nvSpPr>
          <p:spPr>
            <a:xfrm flipH="1">
              <a:off x="2087640" y="4835880"/>
              <a:ext cx="43279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313680" y="4655160"/>
              <a:ext cx="18000" cy="36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238480" y="3903840"/>
              <a:ext cx="2520360" cy="9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248200" y="3868200"/>
              <a:ext cx="287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H="1">
              <a:off x="2307240" y="4838760"/>
              <a:ext cx="2451600" cy="89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266920" y="3910680"/>
              <a:ext cx="2536920" cy="51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 flipV="1">
              <a:off x="1601640" y="4420080"/>
              <a:ext cx="3225600" cy="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2" name="" descr=""/>
            <p:cNvPicPr/>
            <p:nvPr/>
          </p:nvPicPr>
          <p:blipFill>
            <a:blip r:embed="rId2"/>
            <a:stretch/>
          </p:blipFill>
          <p:spPr>
            <a:xfrm>
              <a:off x="5737320" y="4144320"/>
              <a:ext cx="192240" cy="68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3" name=""/>
            <p:cNvSpPr/>
            <p:nvPr/>
          </p:nvSpPr>
          <p:spPr>
            <a:xfrm>
              <a:off x="5124240" y="3867120"/>
              <a:ext cx="1749960" cy="13935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 flipV="1">
              <a:off x="4140720" y="3092400"/>
              <a:ext cx="983160" cy="77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V="1">
              <a:off x="4819320" y="4416120"/>
              <a:ext cx="1947960" cy="129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>
              <a:off x="4749120" y="4133520"/>
              <a:ext cx="1768680" cy="704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BF81-1990-493E-865A-408F0C98A63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53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Wave Ter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11360" y="115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Amplitude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- The distance from the undisturbed position of the particle to it’s maximum dis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ymbol: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easured in me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239840" y="3975120"/>
            <a:ext cx="6705360" cy="2038320"/>
            <a:chOff x="1239840" y="3975120"/>
            <a:chExt cx="6705360" cy="2038320"/>
          </a:xfrm>
        </p:grpSpPr>
        <p:sp>
          <p:nvSpPr>
            <p:cNvPr id="142" name=""/>
            <p:cNvSpPr/>
            <p:nvPr/>
          </p:nvSpPr>
          <p:spPr>
            <a:xfrm>
              <a:off x="1239840" y="3975120"/>
              <a:ext cx="6705360" cy="203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2241720" y="4170600"/>
              <a:ext cx="4957200" cy="1739160"/>
              <a:chOff x="2241720" y="4170600"/>
              <a:chExt cx="4957200" cy="1739160"/>
            </a:xfrm>
          </p:grpSpPr>
          <p:sp>
            <p:nvSpPr>
              <p:cNvPr id="144" name=""/>
              <p:cNvSpPr/>
              <p:nvPr/>
            </p:nvSpPr>
            <p:spPr>
              <a:xfrm>
                <a:off x="2241720" y="5043960"/>
                <a:ext cx="49572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241720" y="4170600"/>
                <a:ext cx="4957200" cy="1739160"/>
              </a:xfrm>
              <a:custGeom>
                <a:avLst/>
                <a:gdLst/>
                <a:ahLst/>
                <a:rect l="l" t="t" r="r" b="b"/>
                <a:pathLst>
                  <a:path w="4301" h="2861">
                    <a:moveTo>
                      <a:pt x="0" y="1440"/>
                    </a:moveTo>
                    <a:cubicBezTo>
                      <a:pt x="360" y="720"/>
                      <a:pt x="720" y="0"/>
                      <a:pt x="1080" y="0"/>
                    </a:cubicBezTo>
                    <a:cubicBezTo>
                      <a:pt x="1440" y="0"/>
                      <a:pt x="1800" y="963"/>
                      <a:pt x="2160" y="1440"/>
                    </a:cubicBezTo>
                    <a:cubicBezTo>
                      <a:pt x="2520" y="1917"/>
                      <a:pt x="2883" y="2861"/>
                      <a:pt x="3240" y="2861"/>
                    </a:cubicBezTo>
                    <a:cubicBezTo>
                      <a:pt x="3597" y="2861"/>
                      <a:pt x="4127" y="1674"/>
                      <a:pt x="4301" y="144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 flipV="1">
              <a:off x="3425760" y="4156920"/>
              <a:ext cx="2160" cy="87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69480" y="4412160"/>
              <a:ext cx="235656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Times New Roman"/>
                </a:rPr>
                <a:t>Amplitu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9A66-DDC8-4D32-B090-9A3ACDDAE0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Mirror Formula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440" y="1644480"/>
            <a:ext cx="7326360" cy="52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Descartes’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=magnification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h=height of  image or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d=distance from mirror to image or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Distances behind the mirror are 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9" name=""/>
              <p:cNvSpPr txBox="1"/>
              <p:nvPr/>
            </p:nvSpPr>
            <p:spPr>
              <a:xfrm>
                <a:off x="4425840" y="1658880"/>
                <a:ext cx="206532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0" name=""/>
              <p:cNvSpPr txBox="1"/>
              <p:nvPr/>
            </p:nvSpPr>
            <p:spPr>
              <a:xfrm>
                <a:off x="4046400" y="2898720"/>
                <a:ext cx="238284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B5F5-D783-43D1-9D89-6183FDC6EAA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Mirror Formula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85800" y="1870200"/>
            <a:ext cx="782784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Newton’s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=distance from focal point to image or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ll distances are positive but care must be taken calculating S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r S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. It is usually necessary to sketch a ray diagram to che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3" name=""/>
              <p:cNvSpPr txBox="1"/>
              <p:nvPr/>
            </p:nvSpPr>
            <p:spPr>
              <a:xfrm>
                <a:off x="4336920" y="1765440"/>
                <a:ext cx="330228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4213080" y="2757600"/>
                <a:ext cx="290988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55" name=""/>
          <p:cNvSpPr/>
          <p:nvPr/>
        </p:nvSpPr>
        <p:spPr>
          <a:xfrm>
            <a:off x="677880" y="6445080"/>
            <a:ext cx="73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imes New Roman"/>
              </a:rPr>
              <a:t>Do Page 195 Questions 12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3B53-A4D8-4089-B118-581EF2EAE5D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080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Refraction of Ligh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646200" y="1066680"/>
            <a:ext cx="794376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bending of light as it goes from one medium into an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8" name=""/>
          <p:cNvGrpSpPr/>
          <p:nvPr/>
        </p:nvGrpSpPr>
        <p:grpSpPr>
          <a:xfrm>
            <a:off x="1706400" y="2612880"/>
            <a:ext cx="6286320" cy="3315960"/>
            <a:chOff x="1706400" y="2612880"/>
            <a:chExt cx="6286320" cy="3315960"/>
          </a:xfrm>
        </p:grpSpPr>
        <p:sp>
          <p:nvSpPr>
            <p:cNvPr id="1059" name=""/>
            <p:cNvSpPr/>
            <p:nvPr/>
          </p:nvSpPr>
          <p:spPr>
            <a:xfrm>
              <a:off x="1806120" y="2612880"/>
              <a:ext cx="5977800" cy="331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740480" y="2960280"/>
              <a:ext cx="0" cy="28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1" name=""/>
            <p:cNvGrpSpPr/>
            <p:nvPr/>
          </p:nvGrpSpPr>
          <p:grpSpPr>
            <a:xfrm>
              <a:off x="2748600" y="2802240"/>
              <a:ext cx="2008800" cy="1868040"/>
              <a:chOff x="2748600" y="2802240"/>
              <a:chExt cx="2008800" cy="1868040"/>
            </a:xfrm>
          </p:grpSpPr>
          <p:sp>
            <p:nvSpPr>
              <p:cNvPr id="1062" name=""/>
              <p:cNvSpPr/>
              <p:nvPr/>
            </p:nvSpPr>
            <p:spPr>
              <a:xfrm flipH="1">
                <a:off x="2748600" y="2802240"/>
                <a:ext cx="1165680" cy="7059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H="1">
                <a:off x="3053520" y="2995920"/>
                <a:ext cx="1165680" cy="7059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H="1">
                <a:off x="3358440" y="3189240"/>
                <a:ext cx="1165680" cy="7063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H="1">
                <a:off x="3662640" y="3417120"/>
                <a:ext cx="1094040" cy="6717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H="1">
                <a:off x="3968280" y="3792960"/>
                <a:ext cx="789120" cy="4896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H="1">
                <a:off x="4273200" y="4180680"/>
                <a:ext cx="483840" cy="2959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H="1">
                <a:off x="4577760" y="4567680"/>
                <a:ext cx="179280" cy="1026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9" name=""/>
            <p:cNvGrpSpPr/>
            <p:nvPr/>
          </p:nvGrpSpPr>
          <p:grpSpPr>
            <a:xfrm>
              <a:off x="4758120" y="3506760"/>
              <a:ext cx="1633320" cy="1516680"/>
              <a:chOff x="4758120" y="3506760"/>
              <a:chExt cx="1633320" cy="1516680"/>
            </a:xfrm>
          </p:grpSpPr>
          <p:grpSp>
            <p:nvGrpSpPr>
              <p:cNvPr id="1070" name=""/>
              <p:cNvGrpSpPr/>
              <p:nvPr/>
            </p:nvGrpSpPr>
            <p:grpSpPr>
              <a:xfrm>
                <a:off x="4758120" y="3506760"/>
                <a:ext cx="573840" cy="1060200"/>
                <a:chOff x="4758120" y="3506760"/>
                <a:chExt cx="573840" cy="1060200"/>
              </a:xfrm>
            </p:grpSpPr>
            <p:sp>
              <p:nvSpPr>
                <p:cNvPr id="1071" name=""/>
                <p:cNvSpPr/>
                <p:nvPr/>
              </p:nvSpPr>
              <p:spPr>
                <a:xfrm flipV="1">
                  <a:off x="4758120" y="3506760"/>
                  <a:ext cx="143280" cy="2847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 flipV="1">
                  <a:off x="4758120" y="3552480"/>
                  <a:ext cx="376560" cy="6156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 flipV="1">
                  <a:off x="4758120" y="3643560"/>
                  <a:ext cx="573840" cy="9234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4" name=""/>
              <p:cNvSpPr/>
              <p:nvPr/>
            </p:nvSpPr>
            <p:spPr>
              <a:xfrm flipV="1">
                <a:off x="4865760" y="3700440"/>
                <a:ext cx="663840" cy="10947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V="1">
                <a:off x="5099400" y="3735000"/>
                <a:ext cx="663840" cy="10944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V="1">
                <a:off x="5296680" y="3826080"/>
                <a:ext cx="663840" cy="10947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V="1">
                <a:off x="5511960" y="3860280"/>
                <a:ext cx="663840" cy="10947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flipV="1">
                <a:off x="5727240" y="3929040"/>
                <a:ext cx="664200" cy="10944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9" name=""/>
            <p:cNvSpPr/>
            <p:nvPr/>
          </p:nvSpPr>
          <p:spPr>
            <a:xfrm>
              <a:off x="3286800" y="3177360"/>
              <a:ext cx="1453680" cy="90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740480" y="4078080"/>
              <a:ext cx="161604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706400" y="3637440"/>
              <a:ext cx="283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Times New Roman"/>
                </a:rPr>
                <a:t>Angle of Incid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237000" y="4016880"/>
              <a:ext cx="175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Times New Roman"/>
                </a:rPr>
                <a:t>Angle of Refra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086200" y="4068360"/>
              <a:ext cx="521316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973680" y="3728520"/>
              <a:ext cx="226800" cy="325800"/>
            </a:xfrm>
            <a:custGeom>
              <a:avLst/>
              <a:gdLst/>
              <a:ahLst/>
              <a:rect l="l" t="t" r="r" b="b"/>
              <a:pathLst>
                <a:path w="101" h="229">
                  <a:moveTo>
                    <a:pt x="0" y="229"/>
                  </a:moveTo>
                  <a:cubicBezTo>
                    <a:pt x="40" y="133"/>
                    <a:pt x="81" y="37"/>
                    <a:pt x="101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5451480" y="4054320"/>
              <a:ext cx="62280" cy="20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3219-8534-46F7-A552-2112BF7C22C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Snell’s Law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894960" y="2762280"/>
            <a:ext cx="7791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Arial"/>
              </a:rPr>
              <a:t>n= refractive inde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NZ" sz="2700" spc="-1" strike="noStrike">
                <a:solidFill>
                  <a:srgbClr val="000000"/>
                </a:solidFill>
                <a:latin typeface="Arial"/>
              </a:rPr>
              <a:t>= angle of incidence/refra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Arial"/>
              </a:rPr>
              <a:t>v= wave spe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NZ" sz="2700" spc="-1" strike="noStrike">
                <a:solidFill>
                  <a:srgbClr val="000000"/>
                </a:solidFill>
                <a:latin typeface="Arial"/>
              </a:rPr>
              <a:t>= waveleng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Arial"/>
              </a:rPr>
              <a:t>Medium 1 is the one the light is leaving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Arial"/>
              </a:rPr>
              <a:t>Medium 2 is the one it is entering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8" name=""/>
          <p:cNvGrpSpPr/>
          <p:nvPr/>
        </p:nvGrpSpPr>
        <p:grpSpPr>
          <a:xfrm>
            <a:off x="1468440" y="1725480"/>
            <a:ext cx="6270120" cy="1107720"/>
            <a:chOff x="1468440" y="1725480"/>
            <a:chExt cx="6270120" cy="1107720"/>
          </a:xfrm>
        </p:grpSpPr>
        <mc:AlternateContent>
          <mc:Choice xmlns:a14="http://schemas.microsoft.com/office/drawing/2010/main" Requires="a14">
            <p:sp>
              <p:nvSpPr>
                <p:cNvPr id="1089" name=""/>
                <p:cNvSpPr txBox="1"/>
                <p:nvPr/>
              </p:nvSpPr>
              <p:spPr>
                <a:xfrm>
                  <a:off x="1565280" y="1901160"/>
                  <a:ext cx="5940720" cy="90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90" name=""/>
            <p:cNvSpPr/>
            <p:nvPr/>
          </p:nvSpPr>
          <p:spPr>
            <a:xfrm>
              <a:off x="1468440" y="1725480"/>
              <a:ext cx="6270120" cy="1107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1" name=""/>
          <p:cNvSpPr/>
          <p:nvPr/>
        </p:nvSpPr>
        <p:spPr>
          <a:xfrm>
            <a:off x="974880" y="6521400"/>
            <a:ext cx="816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imes New Roman"/>
              </a:rPr>
              <a:t>Do Page 203 Questions 13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940B-7885-4DA7-862F-81C1F69029C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723960" y="16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Total Internal Refle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31720" y="2195280"/>
            <a:ext cx="7772400" cy="34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en light travels from a high to low refractive index, it bends away from the nor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particular angle of incidence will cause the light to refract at 9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º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,  ie along the boundary between the m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E384-6CB2-466C-83A9-F625C620879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Total Internal Refle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is angle of incidence is called the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critical angle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</a:t>
            </a:r>
            <a:r>
              <a:rPr b="0" lang="en-NZ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is can be calculated by putting </a:t>
            </a:r>
            <a:r>
              <a:rPr b="0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= 9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º into Snell’s L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1744560" y="4054320"/>
            <a:ext cx="5976720" cy="2040120"/>
            <a:chOff x="1744560" y="4054320"/>
            <a:chExt cx="5976720" cy="2040120"/>
          </a:xfrm>
        </p:grpSpPr>
        <p:sp>
          <p:nvSpPr>
            <p:cNvPr id="1097" name=""/>
            <p:cNvSpPr/>
            <p:nvPr/>
          </p:nvSpPr>
          <p:spPr>
            <a:xfrm>
              <a:off x="1744560" y="4054320"/>
              <a:ext cx="5976720" cy="2040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697920" y="4555080"/>
              <a:ext cx="766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NZ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247000" y="5124240"/>
              <a:ext cx="2317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Times New Roman"/>
                </a:rPr>
                <a:t>Angle of Refraction=90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815720" y="4203000"/>
              <a:ext cx="0" cy="174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225960" y="4173120"/>
              <a:ext cx="1627200" cy="72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4842720" y="4900320"/>
              <a:ext cx="10440" cy="10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161440" y="4883760"/>
              <a:ext cx="521064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123440" y="4686120"/>
              <a:ext cx="226440" cy="199800"/>
            </a:xfrm>
            <a:custGeom>
              <a:avLst/>
              <a:gdLst/>
              <a:ahLst/>
              <a:rect l="l" t="t" r="r" b="b"/>
              <a:pathLst>
                <a:path w="101" h="229">
                  <a:moveTo>
                    <a:pt x="0" y="229"/>
                  </a:moveTo>
                  <a:cubicBezTo>
                    <a:pt x="40" y="133"/>
                    <a:pt x="81" y="37"/>
                    <a:pt x="101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162760" y="4885920"/>
              <a:ext cx="12240" cy="21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 flipV="1">
              <a:off x="4817160" y="5094000"/>
              <a:ext cx="366120" cy="1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C667-C218-4490-8B71-37ACF2556E2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47640" y="34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Total Internal Refle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743040" y="1503000"/>
            <a:ext cx="7772400" cy="24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f the critical angle is exceeded, the light will reflect off the inside surface of the medium it is trying to escape fr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is is called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Total Internal Ref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9" name=""/>
          <p:cNvGrpSpPr/>
          <p:nvPr/>
        </p:nvGrpSpPr>
        <p:grpSpPr>
          <a:xfrm>
            <a:off x="1801800" y="4032360"/>
            <a:ext cx="4816080" cy="2182680"/>
            <a:chOff x="1801800" y="4032360"/>
            <a:chExt cx="4816080" cy="2182680"/>
          </a:xfrm>
        </p:grpSpPr>
        <p:sp>
          <p:nvSpPr>
            <p:cNvPr id="1110" name=""/>
            <p:cNvSpPr/>
            <p:nvPr/>
          </p:nvSpPr>
          <p:spPr>
            <a:xfrm>
              <a:off x="1801800" y="4032360"/>
              <a:ext cx="4816080" cy="218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673000" y="4621680"/>
              <a:ext cx="1424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NZ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NZ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N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NZ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860480" y="5494320"/>
              <a:ext cx="231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flected r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815000" y="4202280"/>
              <a:ext cx="0" cy="174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225600" y="4172760"/>
              <a:ext cx="1569960" cy="93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161080" y="5079960"/>
              <a:ext cx="431928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871080" y="4784760"/>
              <a:ext cx="380880" cy="297360"/>
            </a:xfrm>
            <a:custGeom>
              <a:avLst/>
              <a:gdLst/>
              <a:ahLst/>
              <a:rect l="l" t="t" r="r" b="b"/>
              <a:pathLst>
                <a:path w="101" h="229">
                  <a:moveTo>
                    <a:pt x="0" y="229"/>
                  </a:moveTo>
                  <a:cubicBezTo>
                    <a:pt x="40" y="133"/>
                    <a:pt x="81" y="37"/>
                    <a:pt x="101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3223440" y="5107320"/>
              <a:ext cx="1569960" cy="93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2D47-E490-463B-B89B-2487D6CDA21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Total Internal Refle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is is the principle behind fibre optic cables which are used in medicine and commun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0" name=""/>
          <p:cNvGrpSpPr/>
          <p:nvPr/>
        </p:nvGrpSpPr>
        <p:grpSpPr>
          <a:xfrm>
            <a:off x="330120" y="3624120"/>
            <a:ext cx="8457840" cy="2536920"/>
            <a:chOff x="330120" y="3624120"/>
            <a:chExt cx="8457840" cy="2536920"/>
          </a:xfrm>
        </p:grpSpPr>
        <p:sp>
          <p:nvSpPr>
            <p:cNvPr id="1121" name=""/>
            <p:cNvSpPr/>
            <p:nvPr/>
          </p:nvSpPr>
          <p:spPr>
            <a:xfrm>
              <a:off x="330120" y="3624120"/>
              <a:ext cx="8457840" cy="253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420840" y="3840840"/>
              <a:ext cx="8307360" cy="2186280"/>
              <a:chOff x="420840" y="3840840"/>
              <a:chExt cx="8307360" cy="2186280"/>
            </a:xfrm>
          </p:grpSpPr>
          <p:sp>
            <p:nvSpPr>
              <p:cNvPr id="1123" name=""/>
              <p:cNvSpPr/>
              <p:nvPr/>
            </p:nvSpPr>
            <p:spPr>
              <a:xfrm>
                <a:off x="695520" y="3840840"/>
                <a:ext cx="8032680" cy="1915200"/>
              </a:xfrm>
              <a:custGeom>
                <a:avLst/>
                <a:gdLst/>
                <a:ahLst/>
                <a:rect l="l" t="t" r="r" b="b"/>
                <a:pathLst>
                  <a:path w="3402" h="1609">
                    <a:moveTo>
                      <a:pt x="0" y="239"/>
                    </a:moveTo>
                    <a:cubicBezTo>
                      <a:pt x="510" y="119"/>
                      <a:pt x="1021" y="0"/>
                      <a:pt x="1408" y="193"/>
                    </a:cubicBezTo>
                    <a:cubicBezTo>
                      <a:pt x="1795" y="386"/>
                      <a:pt x="1991" y="1191"/>
                      <a:pt x="2323" y="1400"/>
                    </a:cubicBezTo>
                    <a:cubicBezTo>
                      <a:pt x="2655" y="1609"/>
                      <a:pt x="3222" y="1438"/>
                      <a:pt x="3402" y="1446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420840" y="4165560"/>
                <a:ext cx="8094960" cy="1861560"/>
              </a:xfrm>
              <a:custGeom>
                <a:avLst/>
                <a:gdLst/>
                <a:ahLst/>
                <a:rect l="l" t="t" r="r" b="b"/>
                <a:pathLst>
                  <a:path w="3402" h="1609">
                    <a:moveTo>
                      <a:pt x="0" y="239"/>
                    </a:moveTo>
                    <a:cubicBezTo>
                      <a:pt x="510" y="119"/>
                      <a:pt x="1021" y="0"/>
                      <a:pt x="1408" y="193"/>
                    </a:cubicBezTo>
                    <a:cubicBezTo>
                      <a:pt x="1795" y="386"/>
                      <a:pt x="1991" y="1191"/>
                      <a:pt x="2323" y="1400"/>
                    </a:cubicBezTo>
                    <a:cubicBezTo>
                      <a:pt x="2655" y="1609"/>
                      <a:pt x="3222" y="1438"/>
                      <a:pt x="3402" y="1446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5" name=""/>
            <p:cNvSpPr/>
            <p:nvPr/>
          </p:nvSpPr>
          <p:spPr>
            <a:xfrm>
              <a:off x="349200" y="3972600"/>
              <a:ext cx="7992360" cy="1904760"/>
            </a:xfrm>
            <a:custGeom>
              <a:avLst/>
              <a:gdLst/>
              <a:ahLst/>
              <a:rect l="l" t="t" r="r" b="b"/>
              <a:pathLst>
                <a:path w="3776" h="1600">
                  <a:moveTo>
                    <a:pt x="0" y="164"/>
                  </a:moveTo>
                  <a:lnTo>
                    <a:pt x="420" y="311"/>
                  </a:lnTo>
                  <a:lnTo>
                    <a:pt x="1069" y="0"/>
                  </a:lnTo>
                  <a:lnTo>
                    <a:pt x="2093" y="420"/>
                  </a:lnTo>
                  <a:lnTo>
                    <a:pt x="2285" y="1133"/>
                  </a:lnTo>
                  <a:lnTo>
                    <a:pt x="3209" y="1600"/>
                  </a:lnTo>
                  <a:lnTo>
                    <a:pt x="3776" y="138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057720" y="3906000"/>
              <a:ext cx="226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Fibre optic c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H="1">
              <a:off x="5399280" y="4298760"/>
              <a:ext cx="1218960" cy="64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297080" y="5016960"/>
              <a:ext cx="255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Light r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>
              <a:off x="2535480" y="4178880"/>
              <a:ext cx="831600" cy="88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0" name=""/>
          <p:cNvSpPr/>
          <p:nvPr/>
        </p:nvSpPr>
        <p:spPr>
          <a:xfrm>
            <a:off x="793800" y="6541920"/>
            <a:ext cx="719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imes New Roman"/>
              </a:rPr>
              <a:t>Do Page 206 Questions 1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069A-F5AD-432D-8DF6-C7857D0D227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Dispers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Because white light is made up of a spectrum of colours of slightly different wavelengths, they all refract at a slightly different ang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is causes </a:t>
            </a:r>
            <a:r>
              <a:rPr b="0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dispersion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of the white light into it’s spectrum colo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" descr=""/>
          <p:cNvPicPr/>
          <p:nvPr/>
        </p:nvPicPr>
        <p:blipFill>
          <a:blip r:embed="rId1"/>
          <a:stretch/>
        </p:blipFill>
        <p:spPr>
          <a:xfrm>
            <a:off x="1990800" y="4044960"/>
            <a:ext cx="5657760" cy="2176560"/>
          </a:xfrm>
          <a:prstGeom prst="rect">
            <a:avLst/>
          </a:prstGeom>
          <a:ln w="0">
            <a:noFill/>
          </a:ln>
        </p:spPr>
      </p:pic>
      <p:sp>
        <p:nvSpPr>
          <p:cNvPr id="1134" name=""/>
          <p:cNvSpPr/>
          <p:nvPr/>
        </p:nvSpPr>
        <p:spPr>
          <a:xfrm>
            <a:off x="888840" y="6415200"/>
            <a:ext cx="729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imes New Roman"/>
              </a:rPr>
              <a:t>Do Page 208 Questions 13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472A-C9F4-4F44-B3FB-71534531D99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Lens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660240" y="1066680"/>
            <a:ext cx="77724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re are two main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Convex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(or converging) lens – this brings the rays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y have a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principal focus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behind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the l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7" name=""/>
          <p:cNvGrpSpPr/>
          <p:nvPr/>
        </p:nvGrpSpPr>
        <p:grpSpPr>
          <a:xfrm>
            <a:off x="552600" y="3809880"/>
            <a:ext cx="8178120" cy="2400480"/>
            <a:chOff x="552600" y="3809880"/>
            <a:chExt cx="8178120" cy="2400480"/>
          </a:xfrm>
        </p:grpSpPr>
        <p:sp>
          <p:nvSpPr>
            <p:cNvPr id="1138" name=""/>
            <p:cNvSpPr/>
            <p:nvPr/>
          </p:nvSpPr>
          <p:spPr>
            <a:xfrm>
              <a:off x="552600" y="3809880"/>
              <a:ext cx="8178120" cy="2400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68240" y="5010120"/>
              <a:ext cx="76827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235400" y="4317120"/>
              <a:ext cx="786960" cy="14500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067160" y="4931280"/>
              <a:ext cx="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870120" y="4781520"/>
              <a:ext cx="375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628880" y="4081320"/>
              <a:ext cx="0" cy="197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865800" y="5236200"/>
              <a:ext cx="375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861480" y="5583960"/>
              <a:ext cx="375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870120" y="4495680"/>
              <a:ext cx="375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616280" y="4495680"/>
              <a:ext cx="4050720" cy="85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628880" y="4781520"/>
              <a:ext cx="4063680" cy="38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4628880" y="4874040"/>
              <a:ext cx="3936600" cy="35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V="1">
              <a:off x="4628880" y="4667040"/>
              <a:ext cx="3873240" cy="92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901920" y="523872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D68A-23CD-4CC1-A2AD-3214E7BDA1B8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Wave Ter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206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Wavelength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- The distance from one point on a wave to where it begins to repeat it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ymbol: </a:t>
            </a:r>
            <a:r>
              <a:rPr b="0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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reek letter “lam-da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easured in me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969840" y="3905280"/>
            <a:ext cx="7111800" cy="2130480"/>
            <a:chOff x="969840" y="3905280"/>
            <a:chExt cx="7111800" cy="2130480"/>
          </a:xfrm>
        </p:grpSpPr>
        <p:sp>
          <p:nvSpPr>
            <p:cNvPr id="151" name=""/>
            <p:cNvSpPr/>
            <p:nvPr/>
          </p:nvSpPr>
          <p:spPr>
            <a:xfrm>
              <a:off x="969840" y="3905280"/>
              <a:ext cx="7111800" cy="213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1642680" y="4259520"/>
              <a:ext cx="5850360" cy="1550880"/>
              <a:chOff x="1642680" y="4259520"/>
              <a:chExt cx="5850360" cy="1550880"/>
            </a:xfrm>
          </p:grpSpPr>
          <p:sp>
            <p:nvSpPr>
              <p:cNvPr id="153" name=""/>
              <p:cNvSpPr/>
              <p:nvPr/>
            </p:nvSpPr>
            <p:spPr>
              <a:xfrm>
                <a:off x="1642680" y="5032800"/>
                <a:ext cx="291348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642680" y="4259520"/>
                <a:ext cx="2913480" cy="1539360"/>
              </a:xfrm>
              <a:custGeom>
                <a:avLst/>
                <a:gdLst/>
                <a:ahLst/>
                <a:rect l="l" t="t" r="r" b="b"/>
                <a:pathLst>
                  <a:path w="4301" h="2861">
                    <a:moveTo>
                      <a:pt x="0" y="1440"/>
                    </a:moveTo>
                    <a:cubicBezTo>
                      <a:pt x="360" y="720"/>
                      <a:pt x="720" y="0"/>
                      <a:pt x="1080" y="0"/>
                    </a:cubicBezTo>
                    <a:cubicBezTo>
                      <a:pt x="1440" y="0"/>
                      <a:pt x="1800" y="963"/>
                      <a:pt x="2160" y="1440"/>
                    </a:cubicBezTo>
                    <a:cubicBezTo>
                      <a:pt x="2520" y="1917"/>
                      <a:pt x="2883" y="2861"/>
                      <a:pt x="3240" y="2861"/>
                    </a:cubicBezTo>
                    <a:cubicBezTo>
                      <a:pt x="3597" y="2861"/>
                      <a:pt x="4127" y="1674"/>
                      <a:pt x="4301" y="144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579920" y="5036040"/>
                <a:ext cx="29131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530960" y="4271040"/>
                <a:ext cx="2913120" cy="1539360"/>
              </a:xfrm>
              <a:custGeom>
                <a:avLst/>
                <a:gdLst/>
                <a:ahLst/>
                <a:rect l="l" t="t" r="r" b="b"/>
                <a:pathLst>
                  <a:path w="4301" h="2861">
                    <a:moveTo>
                      <a:pt x="0" y="1440"/>
                    </a:moveTo>
                    <a:cubicBezTo>
                      <a:pt x="360" y="720"/>
                      <a:pt x="720" y="0"/>
                      <a:pt x="1080" y="0"/>
                    </a:cubicBezTo>
                    <a:cubicBezTo>
                      <a:pt x="1440" y="0"/>
                      <a:pt x="1800" y="963"/>
                      <a:pt x="2160" y="1440"/>
                    </a:cubicBezTo>
                    <a:cubicBezTo>
                      <a:pt x="2520" y="1917"/>
                      <a:pt x="2883" y="2861"/>
                      <a:pt x="3240" y="2861"/>
                    </a:cubicBezTo>
                    <a:cubicBezTo>
                      <a:pt x="3597" y="2861"/>
                      <a:pt x="4127" y="1674"/>
                      <a:pt x="4301" y="144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2411280" y="4265280"/>
              <a:ext cx="2897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96200" y="4293000"/>
              <a:ext cx="239760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Times New Roman"/>
                </a:rPr>
                <a:t>Waveleng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FEED-F2B9-47B7-B847-65C5D9A566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Lens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685800" y="1309320"/>
            <a:ext cx="77724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Concave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(or diverging) lens – these spread the rays a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y have a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principle focus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front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of the l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507960" y="3637080"/>
            <a:ext cx="8178480" cy="2400120"/>
            <a:chOff x="507960" y="3637080"/>
            <a:chExt cx="8178480" cy="2400120"/>
          </a:xfrm>
        </p:grpSpPr>
        <p:sp>
          <p:nvSpPr>
            <p:cNvPr id="1155" name=""/>
            <p:cNvSpPr/>
            <p:nvPr/>
          </p:nvSpPr>
          <p:spPr>
            <a:xfrm>
              <a:off x="507960" y="3637080"/>
              <a:ext cx="8178480" cy="2400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6" name=""/>
            <p:cNvGrpSpPr/>
            <p:nvPr/>
          </p:nvGrpSpPr>
          <p:grpSpPr>
            <a:xfrm>
              <a:off x="3704040" y="3998880"/>
              <a:ext cx="1883160" cy="1602000"/>
              <a:chOff x="3704040" y="3998880"/>
              <a:chExt cx="1883160" cy="1602000"/>
            </a:xfrm>
          </p:grpSpPr>
          <p:grpSp>
            <p:nvGrpSpPr>
              <p:cNvPr id="1157" name=""/>
              <p:cNvGrpSpPr/>
              <p:nvPr/>
            </p:nvGrpSpPr>
            <p:grpSpPr>
              <a:xfrm>
                <a:off x="4774680" y="4001040"/>
                <a:ext cx="812520" cy="1599840"/>
                <a:chOff x="4774680" y="4001040"/>
                <a:chExt cx="812520" cy="1599840"/>
              </a:xfrm>
            </p:grpSpPr>
            <p:sp>
              <p:nvSpPr>
                <p:cNvPr id="1158" name=""/>
                <p:cNvSpPr/>
                <p:nvPr/>
              </p:nvSpPr>
              <p:spPr>
                <a:xfrm>
                  <a:off x="4774680" y="4079520"/>
                  <a:ext cx="786960" cy="14497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5168160" y="4001040"/>
                  <a:ext cx="419040" cy="1599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0" name=""/>
              <p:cNvGrpSpPr/>
              <p:nvPr/>
            </p:nvGrpSpPr>
            <p:grpSpPr>
              <a:xfrm>
                <a:off x="3704040" y="3998880"/>
                <a:ext cx="812160" cy="1599840"/>
                <a:chOff x="3704040" y="3998880"/>
                <a:chExt cx="812160" cy="1599840"/>
              </a:xfrm>
            </p:grpSpPr>
            <p:sp>
              <p:nvSpPr>
                <p:cNvPr id="1161" name=""/>
                <p:cNvSpPr/>
                <p:nvPr/>
              </p:nvSpPr>
              <p:spPr>
                <a:xfrm flipH="1">
                  <a:off x="3729240" y="4077360"/>
                  <a:ext cx="786960" cy="14497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 flipH="1">
                  <a:off x="3703680" y="3998880"/>
                  <a:ext cx="418680" cy="1599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3" name=""/>
              <p:cNvSpPr/>
              <p:nvPr/>
            </p:nvSpPr>
            <p:spPr>
              <a:xfrm>
                <a:off x="4127040" y="4079520"/>
                <a:ext cx="1002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4122720" y="5534640"/>
                <a:ext cx="1002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5" name=""/>
            <p:cNvSpPr/>
            <p:nvPr/>
          </p:nvSpPr>
          <p:spPr>
            <a:xfrm>
              <a:off x="2298600" y="4751280"/>
              <a:ext cx="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901800" y="4601160"/>
              <a:ext cx="375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635000" y="3808440"/>
              <a:ext cx="0" cy="197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897480" y="5056200"/>
              <a:ext cx="375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893160" y="5399280"/>
              <a:ext cx="375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901800" y="4315680"/>
              <a:ext cx="375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4685760" y="3708360"/>
              <a:ext cx="2679480" cy="59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V="1">
              <a:off x="4635000" y="4300920"/>
              <a:ext cx="2971800" cy="29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635000" y="5058720"/>
              <a:ext cx="2819160" cy="27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099520" y="500616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99920" y="4830120"/>
              <a:ext cx="76827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926640" y="3715560"/>
              <a:ext cx="6413040" cy="1428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736560" y="4315680"/>
              <a:ext cx="6742800" cy="671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 flipV="1">
              <a:off x="723240" y="4672440"/>
              <a:ext cx="6628680" cy="657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H="1" flipV="1">
              <a:off x="736560" y="4444200"/>
              <a:ext cx="6247440" cy="15141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635000" y="5389560"/>
              <a:ext cx="2425680" cy="59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0B4C-5113-43BB-B438-CB49B2B29CAC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842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Lens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685440" y="1095480"/>
            <a:ext cx="8077320" cy="23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escartes’ and Newton’s formulae still apply as do the ray diagram rules, to find the size, nature and position of the image formed by a l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3" name=""/>
          <p:cNvGrpSpPr/>
          <p:nvPr/>
        </p:nvGrpSpPr>
        <p:grpSpPr>
          <a:xfrm>
            <a:off x="1952640" y="3336840"/>
            <a:ext cx="5430960" cy="2949840"/>
            <a:chOff x="1952640" y="3336840"/>
            <a:chExt cx="5430960" cy="2949840"/>
          </a:xfrm>
        </p:grpSpPr>
        <p:sp>
          <p:nvSpPr>
            <p:cNvPr id="1184" name=""/>
            <p:cNvSpPr/>
            <p:nvPr/>
          </p:nvSpPr>
          <p:spPr>
            <a:xfrm flipV="1" rot="10800000">
              <a:off x="1952640" y="3336840"/>
              <a:ext cx="5430960" cy="2949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H="1">
              <a:off x="2114280" y="4811760"/>
              <a:ext cx="5102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V="1" rot="10800000">
              <a:off x="4389120" y="3960720"/>
              <a:ext cx="522360" cy="1781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649680" y="472284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H="1">
              <a:off x="2223720" y="4168080"/>
              <a:ext cx="4654440" cy="133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653000" y="3670200"/>
              <a:ext cx="0" cy="242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>
              <a:off x="4638240" y="4175280"/>
              <a:ext cx="2235240" cy="11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H="1">
              <a:off x="4653000" y="4179960"/>
              <a:ext cx="220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H="1">
              <a:off x="2415960" y="4178160"/>
              <a:ext cx="2243160" cy="138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H="1">
              <a:off x="2138400" y="5345280"/>
              <a:ext cx="248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H="1" flipV="1" rot="10800000">
              <a:off x="3142080" y="4209840"/>
              <a:ext cx="102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649840" y="4702320"/>
              <a:ext cx="0" cy="2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H="1">
              <a:off x="4650840" y="4170240"/>
              <a:ext cx="2217960" cy="64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7" name="" descr=""/>
            <p:cNvPicPr/>
            <p:nvPr/>
          </p:nvPicPr>
          <p:blipFill>
            <a:blip r:embed="rId1"/>
            <a:stretch/>
          </p:blipFill>
          <p:spPr>
            <a:xfrm flipH="1">
              <a:off x="6660720" y="3760200"/>
              <a:ext cx="281160" cy="10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8" name="" descr=""/>
            <p:cNvPicPr/>
            <p:nvPr/>
          </p:nvPicPr>
          <p:blipFill>
            <a:blip r:embed="rId2"/>
            <a:stretch/>
          </p:blipFill>
          <p:spPr>
            <a:xfrm rot="10800000">
              <a:off x="2581200" y="4803480"/>
              <a:ext cx="23832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9" name=""/>
            <p:cNvSpPr/>
            <p:nvPr/>
          </p:nvSpPr>
          <p:spPr>
            <a:xfrm>
              <a:off x="5257800" y="49896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35BE-C6E8-4C86-8568-FCE6D4571890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Lens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Note: When using Newton’s formula for a convex lens, S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is the distance from object to 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near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focus, and S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from image to 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far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en using Newton’s formula for a concave lens, S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is the distance from object to 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far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focus, and S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from image to 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near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1219320" y="6343560"/>
            <a:ext cx="675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imes New Roman"/>
              </a:rPr>
              <a:t>Do Page 210 Questions 13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EA89-788E-43B6-8A6B-9A405AD5B033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Wave Ter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Wave speed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- the speed of wave propa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ymbol: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easured in ms</a:t>
            </a:r>
            <a:r>
              <a:rPr b="0" lang="en-AU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51200" y="1600200"/>
            <a:ext cx="403560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Period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- the time it takes one wavelength to pass a given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ymbol: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easured in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2583-38E2-43B9-8DEB-67D696332F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Wave Ter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Frequency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- the number of waves that pass a given point per sec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ymbol :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easured in Hertz Hz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(or cycles per second s</a:t>
            </a:r>
            <a:r>
              <a:rPr b="0" lang="en-AU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75200" y="1599840"/>
            <a:ext cx="3711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Note: Frequency and Period are inverses of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e. f =1/T  or                          T = 1/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958A-6185-4135-84BD-0E4296085B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30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Wave Ter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42680" y="1198080"/>
            <a:ext cx="38098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rea of </a:t>
            </a:r>
            <a:r>
              <a:rPr b="0" lang="en-AU" sz="2800" spc="-1" strike="noStrike" u="sng">
                <a:solidFill>
                  <a:srgbClr val="000000"/>
                </a:solidFill>
                <a:uFillTx/>
                <a:latin typeface="Arial"/>
              </a:rPr>
              <a:t>Compression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- part of a longitudinal wave where the particles are squashed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84600" y="1174680"/>
            <a:ext cx="38102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rea of </a:t>
            </a:r>
            <a:r>
              <a:rPr b="0" lang="en-AU" sz="2800" spc="-1" strike="noStrike" u="sng">
                <a:solidFill>
                  <a:srgbClr val="000000"/>
                </a:solidFill>
                <a:uFillTx/>
                <a:latin typeface="Arial"/>
              </a:rPr>
              <a:t>Rarefaction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- part of a longitudinal wave where the particles are spread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658880" y="3870360"/>
            <a:ext cx="6197400" cy="2243160"/>
            <a:chOff x="1658880" y="3870360"/>
            <a:chExt cx="6197400" cy="2243160"/>
          </a:xfrm>
        </p:grpSpPr>
        <p:sp>
          <p:nvSpPr>
            <p:cNvPr id="169" name=""/>
            <p:cNvSpPr/>
            <p:nvPr/>
          </p:nvSpPr>
          <p:spPr>
            <a:xfrm>
              <a:off x="1658880" y="3870360"/>
              <a:ext cx="6197400" cy="224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225520" y="4539600"/>
              <a:ext cx="4822560" cy="978480"/>
              <a:chOff x="2225520" y="4539600"/>
              <a:chExt cx="4822560" cy="97848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2225520" y="4539600"/>
                <a:ext cx="2111400" cy="978480"/>
                <a:chOff x="2225520" y="4539600"/>
                <a:chExt cx="2111400" cy="9784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225520" y="4539600"/>
                  <a:ext cx="0" cy="97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817360" y="4539600"/>
                  <a:ext cx="0" cy="97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265920" y="4539600"/>
                  <a:ext cx="0" cy="97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3125160" y="4539600"/>
                  <a:ext cx="0" cy="97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424680" y="4539600"/>
                  <a:ext cx="0" cy="97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723840" y="4539600"/>
                  <a:ext cx="0" cy="97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336920" y="4539600"/>
                  <a:ext cx="0" cy="97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4936680" y="4539600"/>
                <a:ext cx="2111400" cy="978480"/>
                <a:chOff x="4936680" y="4539600"/>
                <a:chExt cx="2111400" cy="97848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4936680" y="4539600"/>
                  <a:ext cx="0" cy="97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528520" y="4539600"/>
                  <a:ext cx="0" cy="97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977080" y="4539600"/>
                  <a:ext cx="0" cy="97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836320" y="4539600"/>
                  <a:ext cx="0" cy="97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6135840" y="4539600"/>
                  <a:ext cx="0" cy="97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435000" y="4539600"/>
                  <a:ext cx="0" cy="97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048080" y="4539600"/>
                  <a:ext cx="0" cy="97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" name=""/>
            <p:cNvSpPr/>
            <p:nvPr/>
          </p:nvSpPr>
          <p:spPr>
            <a:xfrm>
              <a:off x="2462040" y="4308840"/>
              <a:ext cx="28602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Times New Roman"/>
                </a:rPr>
                <a:t>Compres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006800" y="5412960"/>
              <a:ext cx="206784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Times New Roman"/>
                </a:rPr>
                <a:t>Rarefa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E1C3-D6AB-4D00-9DC1-A05F1CD304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0:50:23Z</dcterms:created>
  <dc:creator>Cashmere High School</dc:creator>
  <dc:description/>
  <dc:language>en-US</dc:language>
  <cp:lastModifiedBy>Administrator</cp:lastModifiedBy>
  <cp:lastPrinted>2003-11-11T21:01:29Z</cp:lastPrinted>
  <dcterms:modified xsi:type="dcterms:W3CDTF">2005-05-10T04:31:44Z</dcterms:modified>
  <cp:revision>31</cp:revision>
  <dc:subject/>
  <dc:title>Light &amp; Waves</dc:title>
</cp:coreProperties>
</file>